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2284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25880" cy="369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895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93726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Num" idx="23"/>
          </p:nvPr>
        </p:nvSpPr>
        <p:spPr>
          <a:xfrm>
            <a:off x="3822840" y="9372240"/>
            <a:ext cx="29145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62352-84CD-47CF-B476-AC68D59E60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674640" y="4687920"/>
            <a:ext cx="5391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674640" y="4687920"/>
            <a:ext cx="5391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674640" y="4687920"/>
            <a:ext cx="5391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4C66-99B2-4C24-8928-4C4EB43D5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9319-E94B-4843-B9EE-B767C69EA89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CFACEF-435B-4E3F-9FEB-9CFD8292E58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BE9D63-B308-4409-BB65-A6EE903A4E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8B04B3-A157-4AF3-B693-7C894BC9B7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0DF71-E428-4503-8E41-807696ACCD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24BEB6-99AD-4DE2-8F69-4915D49F3B5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B135D9-D8A6-471D-949A-5DC8C953CA7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BF6ACE-AB38-46E8-9925-81C09FFE6B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A3D6A5-FEE4-4B9E-ACFD-0C413D8E860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288C5-A290-43E3-8503-B567E948B3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E429-966B-400A-9F57-BFC821884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9EDF-EEA9-48F2-B640-31373640DDB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A6F97-30CE-45DD-826C-263608F702A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F8BF0-6187-4B6C-A35B-89396A1245E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E56DB-42C5-494A-857E-CB7B62892A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7BF3-A99D-42BA-8477-7DC4C26E204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AFE3-8EA7-48C3-9E28-FB64FBEC6B0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733B9-F031-4416-B992-B1D75604156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B6A62-25C4-43E0-87D1-8796F843601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7129-1EB6-4EE7-A9ED-4623C22BA77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80EF7-CE33-4BC5-8430-AB83636AF7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F7B44-455C-46F3-949D-D6AE29422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E604-A109-493E-A762-02DB8AA018B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A893A-BDA0-4DE2-8BFD-328B7EE1612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26054-3A22-443B-BCD6-51B2F3CE85A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895D8-B85A-481A-B3A8-07930D90F25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DCE50-E3DC-4D79-A4CE-88F8E75ADA3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ED024-9C68-487D-8796-8659D08008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79969-F183-41FE-B86D-5727A65EC2C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258DD-CF24-4843-8F08-6F6513600C7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74EF6-F2C4-49CD-82D4-814197FE46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58EB2-8B7B-48A2-8160-7F31BC19873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1AFBC-EC82-4647-AAEF-D105E2BDF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52C0E-2AFB-49DA-9FC1-C1522A03F13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5AE89-5E39-45DE-8098-64E663148BF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B4CBA-6C26-482C-8ACA-45AE00CBF7B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EF3C64-3D9B-411B-9E60-818DD011810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1F02F1-BF86-4FF5-A884-019174815A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63F5D4-AAD2-4A07-8C14-C5D5229EC6E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46042E-77E0-48E1-AF9B-51E5ED9BF22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DAA71E-563E-4BE2-848E-AEED5E172CD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04741B-4EFC-43C6-90DA-EBF422F6B1E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7E6DAF-52E3-46CC-A280-E68DA551EA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6B7E23-180C-4377-8C04-733D708DDED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2E40B9-7356-49E9-BD39-77F716F11AC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781F5-3285-48F7-9983-87735BCECB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72979C-9C1F-4465-B26C-280660C2FC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F267CB-931F-4001-B24F-B4C3D3FC29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D022-F078-477B-8E26-AB121E793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36279-404F-4DF2-A651-F8623D07CB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591CD-2CD3-430F-A52F-8448344A10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9F21B-DC07-44A4-94BA-52D9AC3E82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EF23C-6F2D-41B6-8676-57F0957891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69077-0D85-44EC-8A94-1D17CCF1B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8C28-29F7-4453-BEF9-350D880ABA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9C2CE-7CFA-43E4-B70C-FC6A38D7BB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DADB4-AACB-470E-91B6-DBA0C9F328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13810-34ED-4CBE-9A89-31F6916C0E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C05A9-5ABE-4D7A-B1EA-16EB728F45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5279F-D4EF-44C4-B0FE-AFA2F864AA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FDC10-B780-4655-B344-CFECDE3584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3326D-A643-47ED-AF7B-AA1E1E8C0F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7123-F572-47AE-8174-46DC4D12A0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9083-2D72-4AE7-AFC4-D870218A84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4CF3-3871-4320-A0E5-BB940C8E4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36EF-68EB-4F87-A4DC-CB6652C5F6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570D-FCE5-4DB0-A1C3-DC37054CDA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ACB8-4C51-4BEA-9AC3-C61154377B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4756-B630-4187-955E-DF04BABF92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39D5-B983-4200-8FDA-9CC47015CE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F1A7-C6A5-48C0-B850-9D9458B4CD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F05D-1F73-4E86-A723-D9B2AC219A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A1A2-20E7-4BA6-A80D-AC64980ECF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B8F3-73AD-4ED6-B34A-5004AFEC41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329A-CE82-4E07-BD25-26EC7AC52F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AAD15-6BB4-40EA-AFE3-B055AE52D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3402-F40A-436A-A670-57DE0B3B72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574F2-4750-4635-8E4E-8C1AA3E963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D9AB5-8126-456D-B298-D8846EDA1D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9911F-C32D-444E-A3CF-1696856C16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8FBF9-9530-44C7-8FC4-3F45392AF7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F9370-3C6B-476B-9E5F-F42C60C6A5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B7D5D-C980-444D-A76E-16FC6E4E3DE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5CBE7-1AA7-49C7-BCCE-AB4298A479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3B211-AE58-4CEB-B222-2FCCE7B6C8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0CFBE-9DE4-4AE0-8916-10B13AD028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FADE5-59BE-4447-B2A8-EC5F701E9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3698E-B6C6-448C-A591-79811F77518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2DCD9-5924-4E67-8689-030796F03DA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9FB79-78B5-4ECB-A1DA-DF9908EC76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72939-1900-48D2-8AED-7B350BB998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25C131-9C8C-4F7C-A334-B9D8AAC928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05A8C4-1C14-49CE-B1FE-471F3A0D1E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E3E2A-F55D-4BC0-BC3D-D2ACC35779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0AA2B-A9D7-4C1D-B8B2-BC8B7C5BC48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9C699-27A0-4511-87F6-92D4C68C929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C1CCD-0B52-42CE-89B4-0BD9871E34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5403A-2B7E-4EAD-AF85-B2E3E4E40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940D-1AFC-414F-9630-BEE6FC4CEA0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85EE9-5697-43DB-B22E-E6B87F6AE15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191B2-B829-48E4-AB40-27F0375D0D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EE2F8-DDDE-46B1-9084-349D3E374E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8B985-88AF-4EF6-A884-D8E53DFFED2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38647-F248-40E2-ADE9-05147380FEE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9BCA-ABE2-4DA8-8216-EA92CD4BB8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DB9D8-28D7-44E6-9CF8-674A84ED66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42EA8-D526-47D9-A0C4-7D43A905A06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3F7E6-1C74-4B14-8BC1-D8A5475CEDE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9D50E-73B3-484E-B719-BE2C142E2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F340-1A40-401F-82C1-62B9287B2E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B7FF6-1A2C-49C1-BE4A-CA63302A1AE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85F1-06A0-4CB3-B4B6-A79F5F24EA7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E74F-7A1F-4CA9-BF8B-DD98CBF85C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F321C-9C80-4F33-926F-874A31EAD28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EDEE-08AE-42CD-9DE1-2B3E2B5E2A0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DE68D-7BA5-44E9-8F1D-CFFC79CC11D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05699-4988-4024-8B32-2B3E51AC86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CC94C-EF44-422C-B4E9-0FD4AE22933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A1301-B0CC-426A-B94B-2608C8225A0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B2A08-080B-476F-AF9B-EAE91B328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28EA-7CBA-4211-B72F-4367D344DB3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CAA63-96D6-4CF4-BED4-5892D60F7E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A0D2B-7C42-4C27-B0D9-F784A18F09B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3F1AA-976A-4682-AD28-CB97E328F7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FAED9-DF1A-4247-8E39-ECA8ECF054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BBF1A-CD63-4B38-BF44-B1937D5238C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AA687-3EBE-4338-8002-3C74FB9450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D0CBC-FAA6-4493-9785-169430BE05A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DABF4-0E2D-4781-88A9-FCC44BFD521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C8EE5-A2EC-4731-9D43-105A05BFB04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A7920E-F4F8-43C8-A527-3446CAA66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50614-5BBF-4E85-965B-F108F61AB8F9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4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17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18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2B76E-A750-4AF6-8E65-6F1C3F5A5F51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9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9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0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76FF6-8BF1-4282-A0AC-3BD92DB84729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54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1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2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1ED5E-B677-4D39-9D1F-2E2543BA5E45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1960" y="20160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797960" y="4941720"/>
            <a:ext cx="8096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91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03920" y="9540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643720"/>
            <a:ext cx="1868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Apr. 25, 2009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440480" y="5673600"/>
            <a:ext cx="1524240" cy="61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52280" y="5181480"/>
            <a:ext cx="152424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087800" y="5205240"/>
            <a:ext cx="13032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900080" y="4660920"/>
            <a:ext cx="1879920" cy="195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5772240" y="5140440"/>
            <a:ext cx="1500120" cy="99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60720" y="1065240"/>
            <a:ext cx="5101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Grid Computing Hands On Training for Users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Faculty of Sciences, University of Novi Sad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0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09D40-5385-460F-ADEE-26CAFC9B235B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5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5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6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E593E-A364-4B8C-AA2C-82600DDE77D5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0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7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5202B-2796-48C3-992E-A1BABBC801AC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5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9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0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2D439-EEE2-4CC9-A914-4737F9D0907D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0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1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2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C337A-B6C1-4B2E-A8A8-852E6E1E12E2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4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3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4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46218-2C95-4CBC-8E39-A65A3B08D379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9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5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6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0D0C8-F072-454E-8FDE-23398790D44B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057400" y="1757520"/>
            <a:ext cx="651816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DAG JOB SUBMISSION</a:t>
            </a:r>
            <a:endParaRPr b="0" lang="en-US" sz="32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Branimir Ackovic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acko@scl.rs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cientific Computing Laboratory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Institute of Physics Belgrade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erbia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5680" y="1951200"/>
            <a:ext cx="65185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44800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429000" y="158760"/>
            <a:ext cx="5486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DAG job jdl 1/4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1143000"/>
            <a:ext cx="868680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Type = "dag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InputSandbox = {"job.sh"}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Nodes = [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nodeA = [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Description = [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JobType = "Normal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xecutable = "job.sh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Arguments = "A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StdOutput = "std.out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StdError = "std.err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InputSandbox = {root.InputSandbox[0]}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OutputSandbox = {"std.out","std.err"}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429000" y="158760"/>
            <a:ext cx="5486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DAG job jdl 2/4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1143000"/>
            <a:ext cx="8686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nodeB = [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Description = [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JobType = "Normal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xecutable = "job.sh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Arguments = "B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StdOutput = "std.out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StdError = "std.err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InputSandbox = {root.InputSandbox[0]}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OutputSandbox = {"std.out","std.err"}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429000" y="158760"/>
            <a:ext cx="5486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DAG job jdl 3/4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143000"/>
            <a:ext cx="8686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nodeC = [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Description = [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JobType = "Normal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xecutable = "job.sh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Arguments = "C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StdOutput = "std.out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StdError = "std.err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InputSandbox = {root.InputSandbox[0]}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OutputSandbox = {"std.out","std.err"}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429000" y="158760"/>
            <a:ext cx="5486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DAG job jdl 4/4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28600" y="1143000"/>
            <a:ext cx="868680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nodeD = [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Description = [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JobType = "Normal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xecutable = "job.sh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Arguments = "D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StdOutput = "std.out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StdError = "std.err"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InputSandbox = {root.InputSandbox[0]}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OutputSandbox = {"std.out","std.err"}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Dependencies = {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{nodeA,nodeB},{nodeA,nodeC},{{nodeB,nodeC},nodeD}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254320" y="66600"/>
            <a:ext cx="67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A64F4-FE0F-4A66-8506-362D939F5C6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157320"/>
            <a:ext cx="5486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job.sh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" y="1371600"/>
            <a:ext cx="8686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#!/bin/bash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echo "Job $1 - `date` - BEGIN"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hostname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sleep 100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echo "Job $1 - `date` - END"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2:02Z</dcterms:created>
  <dc:creator>Dusan Vudragovic</dc:creator>
  <dc:description/>
  <cp:keywords>Grid Computing Hands On Training for Users</cp:keywords>
  <dc:language>en-US</dc:language>
  <cp:lastModifiedBy>Dusan Vudragovic</cp:lastModifiedBy>
  <cp:lastPrinted>2009-01-23T08:59:10Z</cp:lastPrinted>
  <dcterms:modified xsi:type="dcterms:W3CDTF">2009-04-24T15:16:45Z</dcterms:modified>
  <cp:revision>35</cp:revision>
  <dc:subject/>
  <dc:title>Grid Computing Hands On Training for Users</dc:title>
</cp:coreProperties>
</file>