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907588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856800" cy="67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2"/>
          </p:nvPr>
        </p:nvSpPr>
        <p:spPr>
          <a:xfrm>
            <a:off x="5584320" y="-3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3107880" y="504720"/>
            <a:ext cx="3646440" cy="25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3"/>
          </p:nvPr>
        </p:nvSpPr>
        <p:spPr>
          <a:xfrm>
            <a:off x="0" y="6393960"/>
            <a:ext cx="427032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4"/>
          </p:nvPr>
        </p:nvSpPr>
        <p:spPr>
          <a:xfrm>
            <a:off x="5584320" y="6393960"/>
            <a:ext cx="427068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C8EF21-036E-44BE-A311-AE372F19F3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574EF2-8D0B-4B21-ADCE-5951C249D3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3108240" y="504720"/>
            <a:ext cx="3646440" cy="2524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1312920" y="3198600"/>
            <a:ext cx="722952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5584680" y="6394320"/>
            <a:ext cx="4270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231EF5-9566-4FDF-BF74-5295155A2E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12600"/>
            <a:ext cx="85122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2760" y="4132080"/>
            <a:ext cx="899136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90040" y="166500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276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090040" y="4132080"/>
            <a:ext cx="438768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229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63160" y="166500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7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229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63160" y="4132080"/>
            <a:ext cx="2895120" cy="2252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AEGIS Training for Site Administrators, Institute of Physics Belgrade, December 10-11, 2008  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‹#›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" name="Picture 10" descr="SEEGRIDSCI-logo-medium.jpg"/>
          <p:cNvPicPr/>
          <p:nvPr/>
        </p:nvPicPr>
        <p:blipFill>
          <a:blip r:embed="rId3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8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9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2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0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1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9906120" cy="847800"/>
          </a:xfrm>
          <a:prstGeom prst="rect">
            <a:avLst/>
          </a:prstGeom>
          <a:gradFill rotWithShape="0">
            <a:gsLst>
              <a:gs pos="0">
                <a:srgbClr val="38007f"/>
              </a:gs>
              <a:gs pos="100000">
                <a:srgbClr val="6600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722040" y="29098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ww.see-grid-sci.eu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5538960" y="15228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E-GRID-SCI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Line 33"/>
          <p:cNvSpPr/>
          <p:nvPr/>
        </p:nvSpPr>
        <p:spPr>
          <a:xfrm flipV="1">
            <a:off x="0" y="882360"/>
            <a:ext cx="9906120" cy="111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Line 34"/>
          <p:cNvSpPr/>
          <p:nvPr/>
        </p:nvSpPr>
        <p:spPr>
          <a:xfrm flipV="1">
            <a:off x="0" y="6573960"/>
            <a:ext cx="990612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7" name="Picture 12" descr="SEEGRIDSCI-logo-medium.jpg"/>
          <p:cNvPicPr/>
          <p:nvPr/>
        </p:nvPicPr>
        <p:blipFill>
          <a:blip r:embed="rId2"/>
          <a:stretch/>
        </p:blipFill>
        <p:spPr>
          <a:xfrm>
            <a:off x="6443640" y="1787400"/>
            <a:ext cx="3255840" cy="216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EE-GRID-SCI initiative is co-funded by the European Commission under the FP7 Research Infrastructures contract no. 2113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58656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EGIS Training for Site Administrators, Institute of Physics Belgrade, December 10-11, 2008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	</a:t>
            </a:r>
            <a:fld id="{63C36F4E-F8D3-41BC-8C93-048FFAD31E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3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73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5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5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57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6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9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7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Line 11"/>
          <p:cNvSpPr/>
          <p:nvPr/>
        </p:nvSpPr>
        <p:spPr>
          <a:xfrm flipV="1">
            <a:off x="0" y="1133640"/>
            <a:ext cx="8489880" cy="108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0" y="6573960"/>
            <a:ext cx="9906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Picture 10" descr="SEEGRIDSCI-logo-medium.jpg"/>
          <p:cNvPicPr/>
          <p:nvPr/>
        </p:nvPicPr>
        <p:blipFill>
          <a:blip r:embed="rId2"/>
          <a:stretch/>
        </p:blipFill>
        <p:spPr>
          <a:xfrm>
            <a:off x="8501040" y="0"/>
            <a:ext cx="1405080" cy="1177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97000" indent="-23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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74720" indent="-23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55680" indent="-239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8"/>
          </p:nvPr>
        </p:nvSpPr>
        <p:spPr>
          <a:xfrm>
            <a:off x="-360" y="65642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Event name&gt;, &lt;Event location&gt;, &lt;event date&gt;   ‹#›/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72520" y="1787400"/>
            <a:ext cx="614556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Verdana"/>
              </a:rPr>
              <a:t>New SEE-GRID VOs</a:t>
            </a:r>
            <a:endParaRPr b="1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78000" y="5238720"/>
            <a:ext cx="60418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Dusan Vudragovic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CL, Institute of Physics Belgrade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Serbia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dusan@scl.rs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0" y="6578640"/>
            <a:ext cx="9906120" cy="2937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EE-GRID-SCI initiative is co-funded by the European Commission under the FP7 Research Infrastructures contract no. 211338</a:t>
            </a: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29760" y="3665160"/>
            <a:ext cx="6077160" cy="5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AEGIS Training for Site Administra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e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.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 configu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eo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il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_DIR=$VO_SW_DIR/mete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_SE=$DPM_H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SERVERS=“vomss://voms.grid.auth.gr:8443/voms/meteo.see-grid-sci.eu?/meteo.see-grid-sci.eu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ES=“’meteo.see-grid-sci.eu voms.grid.auth.gr 15150 /C=GR/O=HellasGrid/OU=auth.gr/CN=voms.grid.auth.gr meteo.see-grid-sci.eu’ ‘meteo.see-grid-sci.eu voms.phy.bg.ac.yu 15003 /C=RS/O=AEGIS/OU=Institute of Physics Belgrade/CN=host/voms.phy.bg.ac.yu meteo.see-grid-sci.eu’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CA_DN=“’/C=GR/O=HellasGrid/OU=Certification Authorities/CN=HellasGrid CA 2006’ ‘/C=RS/O=AEGIS/CN=AEGIS-CA’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e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3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meteo.see-grid-sci.eu/GROUP=/meteo.see-grid-sci.eu/ROLE=VO-Admin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meteo.see-grid-sci.eu/GROUP=/meteo.see-grid-sci.eu/ROLE=smanager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meteo.see-grid-sci.eu/GROUP=/meteo.see-grid-sci.eu"::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meteo.see-grid-sci.eu/GROUP=/meteo.see-grid-sci.eu/*":::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2001:meteo001:22000:meteo:meteo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2002:meteo002:22000:meteo:meteo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2003:meteo003:22000:meteo:meteo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2801:prdmeteo001:22080,22000:prdmeteo,meteo:meteo.see-grid-sci.eu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2901:sgmmeteo001:22090,22000:sgmmeteo,meteo:meteo.see-grid-sci.eu:sg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ism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Prim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grid.org.tr/seismology/seismo.see-grid-sci.eu-voms-cert-0.1-1.i386.rp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ismo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ism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 the QUEUE to the VO Role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ISMO_GROUP_ENABLE="seismo.see-grid-sci.e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seismo.see-grid-sci.eu/GROUP=/seismo.see-grid-sci.eu/ROLE=VO-Adm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seismo.see-grid-sci.eu/GROUP=/seismo.see-grid-sci.eu/ROLE=smanager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ism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.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 configu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ismo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il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_DIR=$VO_SW_DIR/seism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_SE=$DPM_H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SERVERS=“vomss://voms.ulakbim.gov.tr:8443/voms/seismo.see-grid-sci.eu?/seismo.see-grid-sci.eu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ES=“’seismo.see-grid-sci.eu voms.ulakbim.gov.tr 15059 /C=TR/O=TRGrid/OU=TUBITAK-ULAKBIM/CN=voms.ulakbim.gov.tr seismo.see-grid-sci.eu’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CA_DN="'/C=TR/O=TRGrid/CN=TR-Grid CA'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ism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3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seismo.see-grid-sci.eu/GROUP=/seismo.see-grid-sci.eu/ROLE=sgmadmin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seismo.see-grid-sci.eu/GROUP=/seismo.see-grid-sci.eu/ROLE=production"::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seismo.see-grid-sci.eu/GROUP=/seismo.see-grid-sci.eu"::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seismo.see-grid-sci.eu/GROUP=/seismo.see-grid-sci.eu/*":::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1:seismo001:21000:seismo:seismo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002:seismo002:21000:seismo:seismo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801:prdseismo001:21080,21000:prdseismo,seismo:seismo.see-grid-sci.eu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01:sgmseismo001:21090,21000:sgmseismo,seismo:seismo.see-grid-sci.eu:sg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5320" indent="-355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v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Prim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ca.acad.bg/certs/hosts-voms.ipp.acad.bg-20080703-085100-cert.p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v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v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 the QUEUE to the VO Role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V_GROUP_ENABLE=“env.see-grid-sci.e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env.see-grid-sci.eu/GROUP=/env.see-grid-sci.eu/ROLE=VO-Adm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env.see-grid-sci.eu/GROUP=/env.see-grid-sci.eu/ROLE=op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env.see-grid-sci.eu/GROUP=/env.see-grid-sci.eu/ROLE=smanager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v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.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 configu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v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il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_DIR=$VO_SW_DIR/env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_SE=$DPM_H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SERVERS=“vomss://voms.ipp.acad.bg:8443/voms/env.see-grid-sci.eu?/env.see-grid-sci.eu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ES=“’env.see-grid-sci.eu voms.ipp.acad.bg 15001 /DC=bg/DC=acad/O=hosts/O=IPP-BAS/OU=DPA/CN=voms.ipp.acad.bg env.see-grid-sci.eu’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CA_DN="'/DC=bg/DC=acad/CN=BG.ACAD CA'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v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3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env.see-grid-sci.eu/GROUP=/env.see-grid-sci.eu/ROLE=sgmadmin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env.see-grid-sci.eu/GROUP=/env.see-grid-sci.eu/ROLE=ops"::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env.see-grid-sci.eu/GROUP=/env.see-grid-sci.eu"::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env.see-grid-sci.eu/GROUP=/env.see-grid-sci.eu/*":::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3001:env001:23000:env:env.see-grid-sci.eu::23002:env002:23000:env:env.see-grid-sci.eu::23003:env003:23000:env:env.see-grid-sci.eu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3801:prdenv001:23080,23000:prdenv,env:env.see-grid-sci.eu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3901:sgmenv001:23090,23000:sgmenv,env:env.see-grid-sci.eu:sg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s.vo.egee-see.or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82760" y="137448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Prim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grid.auth.gr/services/voms/voms.grid.auth.gr.57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Second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voms.phy.bg.ac.yu/voms.phy.bg.ac.yu.1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ps.vo.egee-see.or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eop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 the QUEUE to the VO Role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EOPS_GROUP_ENABLE=“ops.vo.egee-see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ops.vo.egee-see.org/GROUP=/ops.vo.egee-see.org/ROLE=VO-Adm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ops.vo.egee-see.org/GROUP=/ops.vo.egee-see.org/ROLE=lcgadmi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s.vo.egee-see.or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2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.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ory configu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ps.vo.egee-see.org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Courier New"/>
              </a:rPr>
              <a:t>file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W_DIR=$VO_SW_DIR/seeo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_SE=$DPM_HO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SERVERS=“vomss://voms.grid.auth.gr:8443/voms/ops.vo.egee-see.org?/ops.vo.egee-see.org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ES=“’ops.vo.egee-see.org voms.grid.auth.gr 15120 /C=GR/O=HellasGrid/OU=auth.gr/CN=voms.grid.auth.gr ops.vo.egee-see.org’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MS_CA_DN="'/C=GR/O=HellasGrid/OU=Certification Authorities/CN=HellasGrid CA 2006'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ree discipline V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re objective of SEE-GRID-SCI is to engage user communities from different countries in close collab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rget applications are from the fields most relevant for the region: taking into account local geogra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eorolo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ismolog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vironmental prote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core earth science disciplines i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each discipline, a number of key players from the region are involved in common use of eInfrastructure, enabling them to share data, applications, tools and results of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s.vo.egee-see.or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3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ops.vo.egee-see.org/GROUP=/ops.vo.egee-see.org/ROLE=VO-Admin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ops.vo.egee-see.org/GROUP=/ops.vo.egee-see.org/ROLE=lcgadmin":::sg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ops.vo.egee-see.org/GROUP=/ops.vo.egee-see.org"::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/VO=ops.vo.egee-see.org/GROUP=/ops.vo.egee-see.org/*":::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s.con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5001:seeops001:25000:seeops:ops.vo.egee-see.org::25002:seeops002:25000:seeops:ops.vo.egee-see.org::25003:seeops003:25000:seeops:ops.vo.egee-see.org: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5801:prdseeops001:25080,25000:prdseeops,seeops:ops.vo.egee-see.org:prd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5901:sgmseeops001:25090,25000:sgmseeops,seeops:ops.vo.egee-see.org:sg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E-GRID-SCI YAIM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-GRID-SCI YAIM siteinfo directory template is available at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viewvc.scl.rs/viewvc/yaim/trunk/?root=see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gional VO for SAM job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s with current SAM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ture perspective of the Grid monitoring tools and dash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Content Placeholder 3" descr="architecture-overall.png"/>
          <p:cNvPicPr/>
          <p:nvPr/>
        </p:nvPicPr>
        <p:blipFill>
          <a:blip r:embed="rId5"/>
          <a:stretch/>
        </p:blipFill>
        <p:spPr>
          <a:xfrm>
            <a:off x="4324320" y="2668680"/>
            <a:ext cx="5581800" cy="3735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"/>
          <p:cNvPicPr/>
          <p:nvPr/>
        </p:nvPicPr>
        <p:blipFill>
          <a:blip r:embed="rId6"/>
          <a:stretch/>
        </p:blipFill>
        <p:spPr>
          <a:xfrm>
            <a:off x="0" y="2754360"/>
            <a:ext cx="42372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eorology VO core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82760" y="1657080"/>
            <a:ext cx="8991360" cy="473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.phy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.phy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NET-AUT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.grid.auth.g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.phy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id02.rcub.bg.ac.y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id16.rcub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G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id16.rcub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1720" indent="-3517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29412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.phy.bg.ac.y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ismology VO core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.ulakbim.gov.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.ulakbim.gov.t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.ulakbim.gov.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.ulakbim.gov.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s.ulakbim.gov.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G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ts.ulakbim.gov.t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BITA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.ulakbim.gov.t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vironmental VO core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82760" y="1160280"/>
            <a:ext cx="8991360" cy="538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PP-B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dii.ipp.acad.b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bed005.grid.ici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-UP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dii.seegrid.grid.pub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PP-B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ms.ipp.acad.b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bed007.grid.ici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-UP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ms.seegrid.grid.pub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-UV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ms.grid.info.uvt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PP-B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ms.ipp.acad.b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B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oms.irb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-UTC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fc01.mosigrid.utcluj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PP-BA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fc.ipp.acad.b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bed003.grid.ici.r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PP-BA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yproxy.ipp.acad.bg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CI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bed003.grid.ici.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349"/>
              </a:spcBef>
              <a:buSzPct val="105842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EE-OPS VO core servi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dii.phy.bg.ac.y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ms.phy.bg.ac.y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ms.phy.bg.ac.y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fc.phy.bg.ac.y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OB-IP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proxy.phy.bg.ac.y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O Support Wiki pag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eorology VO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iki.egee-see.org/index.php/Meteo.see-grid-sci.eu_VO_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ismology VO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iki.egee-see.org/index.php/Seismo.see-grid-sci.eu_VO_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al VO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iki.egee-see.org/index.php/Environmental_VO_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-OPS VO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iki.hellasgrid.gr/wiki/bin/view/HellasGrid/GOC/ClusterConfigurationForTheSEEOPS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e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-12600"/>
            <a:ext cx="8512200" cy="11253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eo.see-grid-sci.eu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(1/3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82760" y="1665000"/>
            <a:ext cx="8991360" cy="4722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Prim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grid.auth.gr/services/voms/voms.grid.auth.gr.57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Courier New"/>
              </a:rPr>
              <a:t>Secondary VOMS server certificat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voms.phy.bg.ac.yu/voms.phy.bg.ac.yu.1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ite-info.de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eo.see-grid-sci.e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e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E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960" indent="-3002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 the QUEUE to the VO Ro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EO_GROUP_ENABLE=“meteo.see-grid-sci.e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meteo.see-grid-sci.eu/GROUP=/meteo.see-grid-sci.eu/ROLE=VO-Adm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VO=meteo.see-grid-sci.eu/GROUP=/meteo.see-grid-sci.eu/ROLE=smanag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0:58:36Z</dcterms:created>
  <dc:creator>Dusan Vudragovic</dc:creator>
  <dc:description/>
  <cp:keywords>SEE-GRID-SCI AEGIS SCL Training Site Administrator</cp:keywords>
  <dc:language>en-US</dc:language>
  <cp:lastModifiedBy>Dusan Vudragovic</cp:lastModifiedBy>
  <dcterms:modified xsi:type="dcterms:W3CDTF">2008-12-09T22:50:20Z</dcterms:modified>
  <cp:revision>155</cp:revision>
  <dc:subject>AEGIS Training for Site Administrators</dc:subject>
  <dc:title>&lt;Presentation Title&gt; &lt;Presentation Subtitle&gt;</dc:title>
</cp:coreProperties>
</file>