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6746760" cy="986796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92">
                <a:moveTo>
                  <a:pt x="5" y="0"/>
                </a:moveTo>
                <a:arcTo wR="5" hR="5" stAng="16200000" swAng="-5400000"/>
                <a:lnTo>
                  <a:pt x="0" y="31587"/>
                </a:lnTo>
                <a:arcTo wR="5" hR="5" stAng="10800000" swAng="-5400000"/>
                <a:lnTo>
                  <a:pt x="21595" y="3159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22840" y="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09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942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937260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23"/>
          </p:nvPr>
        </p:nvSpPr>
        <p:spPr>
          <a:xfrm>
            <a:off x="3822480" y="937260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5610E-5969-49C8-BB16-B4580B14F5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6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6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6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90648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6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12B1-1C7D-4222-8995-10DD78C92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81CE-93DE-4B36-BE75-1214DA2E24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D2CE0-AC4E-42CE-A74C-70263C39EE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202BB-0DA0-4084-92F7-FA7F69DC00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B9029-CAB4-42F8-B84F-8CB762CABE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AAF58-4574-4089-8CBD-46CC9BE425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804BF-3C5A-4DF8-94BD-087841C632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67733-7767-4193-BB5D-F638B091DF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77C98-1877-447B-A34A-E48DCE3C75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EAD69-F3E6-4C35-AA37-E1810827B8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34767-84E8-4D7A-B279-FF7FBA1945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DFA9-1A9C-479E-B6E2-3A7C95BE7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A970-A860-45FE-B08C-71D738AABD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1637-961B-4413-80E6-AAD236B20B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1899-6435-434C-950E-BD2CB8E256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C2C58-C78C-48E5-A805-51BDA9D082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ECAC-56C1-43C7-BEF2-5B186346CE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7502D-AA0B-4A1D-BBB8-06B423A0E0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862D-45B1-4CA9-BEBF-5D41D1E594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7D85-8E98-4A99-822A-BDC69E1B32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7CA6-469C-4D30-A1C4-304E5C9ED7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76254-7690-4337-AE5D-2EB76B8CBE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16F6-DCE5-4FA9-A169-7E0ED4FC6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E500-21E4-4AC2-B670-D9B2070EAB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1399-B33D-45F6-BF81-5A49E3418BE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5BFDB-F549-41E0-B6A8-F938A18086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2D093-6684-4198-8879-3F91205421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B576F-E7D1-4C0E-8764-B45874B20F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09878-E088-4AC4-A58E-648A88E603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87650-62F3-4065-ABF6-890F8EE994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CE0D1-D743-4643-B83C-C021AE35781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75733-4E21-4561-9836-3A889D0F6D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94A18-E24C-4FDE-9C70-4E434C0AFF0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A4851-5DBC-4ACB-BD42-DE8187A11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C2A20-C190-4C15-B5A6-1B8E9D7372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94B01-278C-4641-82EB-330BDF4E6D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C3812-3114-4066-B8BD-5070BFE249B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6BF3D3-38AA-4E20-AE05-15F4D13D9C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187BFA-EFFE-4C85-8ADE-327C67E4A5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4FF34A-576D-4262-A262-1A26A73D064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7C1543-8DF1-494B-8E5E-17AD356509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C631A-7054-4180-832E-1A70256F037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61EEBD-38A2-49F7-9CC8-4D8B780E43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F325E-AD2B-4752-B7AE-D238F2C292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DACE2-6205-4360-84AD-2831B3A17C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90C0F-B261-4E16-8171-18EADCC818D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83FC2-3B40-44BF-AD97-CE54E6D11A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9E3F7-E58C-4AD4-9F83-CFFCFC9C90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7D327-5DAD-4D4C-BBEF-E1922623F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C3E2-39DB-4309-89A7-60FA45CA2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2AA52-23CF-45AE-BC08-5DB6B9291C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DA886-3E87-4ACD-BB78-BB627ADDEC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7C053-D5E4-4494-80AD-AB79A6EAB3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C797-C1A2-4A0E-827E-D9BC862C99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9DBE0-5476-4EFB-A210-9DCEF74D1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2AAE-370B-479A-844E-70E91C8E73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4669-816C-45EC-A8EC-B51E8F3862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1B7F1-0DF3-442A-BB96-9A3606DF8A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7CF3C-9B9F-4AF0-AAA2-8F3F39E8A2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42DC-5790-41BD-83BB-1C0BD8E0E3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77777-BF96-4E53-9623-86EE7A0866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21DF0-93E0-4DC2-AB52-9F26F31085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DF548-1609-444B-9C8B-BB512C02C9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6D1-D97B-41D2-9BDF-9684764F01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06F5-9AC5-46FE-A080-BF55112232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5482-9141-44EE-AA9A-9ED648EFD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4806-9E98-4027-8939-0CC8B53043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7C60-935B-44C5-A6CE-2084FD283B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9015-BCBA-4612-A005-F3F1EBD29E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F128-A4B9-423A-B0A0-06CE077A91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AB9-787E-4A64-8E05-46C02DA8EE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651-3BCB-4D39-A759-9572DBA78F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F316-5501-46ED-BF61-9270DFFB79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D24C-5FE8-412A-AA86-965C3DE770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7C98-81EE-4CFC-892A-D5756B7610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3AA-774D-40A1-8C5A-156B6BD700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17858-9D42-4A94-9756-E1C9CAC64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A63A-CC6F-4061-B9E0-CD68928CBB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8FB19-26D1-4944-8E25-3D02827EBD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63656-07F3-4F9C-A331-2CE1A6256B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924D9-4FFB-4020-AF31-132689234E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F94EB-0D96-4D50-9154-564B3B2E5F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1EC0D-0844-4158-8488-201235CEFC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49C93-9B44-40D9-B237-D3565AA659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80014-B6A5-48F2-A920-1E45EEB877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BE395-7AAA-454F-AA9E-B188DB4C69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2242F-9035-4495-9F94-3C040C6F811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7A6DD-E3C1-4B27-A407-D5823D15F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27CF-1E43-4286-896C-53F50C9C0E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BB221-67A7-4F6F-AF53-288FADCCFA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44DB3-9E41-4FB1-8BAE-5CBBBF742D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58D0B-996E-4645-9BD3-0653AB2DD5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DE99D-8CD5-4B78-9C26-CE65C3B1F3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BD851-0FF3-4246-8061-50B4BE4F4F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91FE0-806E-4DB2-B242-54A2E5D5AB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6438E-7B09-4B53-ADE4-15006CFEE1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7A63E-743D-426A-8220-EFD82ACE8E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7FE17-7ACD-48BE-96D4-16F006819E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0F8EA-1482-4A96-AF58-A8E51A2EC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272B-DC30-43F4-A814-C89CF9DCE8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1E7EC-8B09-4538-AFB2-5DCCF1B789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046DA5-8A5B-4470-9ED3-9DA45C06B9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D5966-33BE-48F5-8D6D-F53D8C255E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F813-D16E-4FF1-94FE-8276D5236E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A655-EA2B-4998-8533-F4DB1500FE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6F1F-13D7-4F8A-8C0F-14188FB86F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5F5A-A328-4874-83F3-485997E2FB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D087-7DAF-4588-8F99-AAD4EA813D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C3E8-F58A-41C0-9FCF-B85F62D6652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6878-0A48-4BD3-96E8-F5A3F338E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036F-9FF6-4A21-B5C7-9D59513C85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C272-FB1B-47EA-9B94-B955833962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BDCF-9C28-48C1-A792-92B3B11627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ED64-71FE-4B7A-BBC5-C35907E31F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3747-6058-4EBD-B4B6-522BA37ABC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24AA-35ED-44A0-99CD-144C405C4B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7436C-E399-4F1D-91E2-6464E11667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95CAF-3F17-473D-8A5A-2DFF3E49AC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3AA26-85B7-409D-9A23-84F41FC6FF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B5F4E-300F-4075-85C8-AA7A70B91D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689DE-AA64-4A3C-8221-FB017E0A9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7732-D454-4812-A717-9B0804C345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253960" y="66600"/>
            <a:ext cx="67309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B11FF-8384-4A52-AE0B-6A1666F2646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95171-3893-481F-8AFA-F2705213DD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A230C-BCEA-45A4-BDDE-547A49E4AF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2B701-D6F2-43FC-89EC-0B11932E04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5600" y="3809160"/>
            <a:ext cx="858708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F460E-066E-4FFC-8679-2A8142E821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45880" y="97488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4560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45880" y="3809160"/>
            <a:ext cx="41904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6D6D9-4D4C-4CB9-BE4E-F450C1F4CA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490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52400" y="97488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456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490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52400" y="3809160"/>
            <a:ext cx="276480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DA0BA-B721-4245-9260-71542EACD1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A0BDD-76CF-4F8B-A32F-2FDBDAC083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71B48-6D62-4323-9B17-5DEA6C1FBD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4EC13-B092-4837-AFD9-05916DD91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F1ADD-A35D-4754-93B6-464422ABC535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4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7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18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B8D23-78F5-4476-AE84-A56FDF2D8415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49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9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0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E5E6C-1365-4CE7-B392-DFC01372B5EE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54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1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2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B2ADC-B4CD-4A6E-A0AF-860DE0C6C8A5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1960" y="20160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97960" y="4941720"/>
            <a:ext cx="8096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91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03920" y="954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643720"/>
            <a:ext cx="1868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Apr. 25, 2009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440480" y="5673600"/>
            <a:ext cx="1524240" cy="61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52280" y="5181480"/>
            <a:ext cx="152424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087800" y="5205240"/>
            <a:ext cx="13032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00080" y="4660920"/>
            <a:ext cx="187992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772240" y="5140440"/>
            <a:ext cx="1500120" cy="99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60720" y="1065240"/>
            <a:ext cx="510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Grid Computing Hands On Training for Users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Faculty of Sciences, University of Novi Sad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0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3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4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1AABE-47E4-4FC8-A5B8-621D23872D43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15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4C43E-0545-41CD-9A64-85BC55719CD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04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7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8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62100-0D15-4F1B-A367-ED544A62B4A1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252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9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0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D72D3-4838-4062-B85E-0EF4AEB19569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00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865FA-7BA5-4DCC-BB26-7F558B809A90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4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3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4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68D85-BA06-4388-B420-8C9C29821C3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396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45600" y="974880"/>
            <a:ext cx="858708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2253960" y="66600"/>
            <a:ext cx="6730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5"/>
          </p:nvPr>
        </p:nvSpPr>
        <p:spPr>
          <a:xfrm>
            <a:off x="1736280" y="6559560"/>
            <a:ext cx="6699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Grid Computing Hands On Training for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6"/>
          </p:nvPr>
        </p:nvSpPr>
        <p:spPr>
          <a:xfrm>
            <a:off x="8521200" y="6562800"/>
            <a:ext cx="466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240E4-0A01-42F8-85C3-237E9AA3CC14}" type="slidenum">
              <a:rPr b="1" lang="en-GB" sz="1200" spc="-1" strike="noStrike">
                <a:solidFill>
                  <a:srgbClr val="2b519a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057400" y="1828800"/>
            <a:ext cx="65181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INFORMATION SERVICE</a:t>
            </a:r>
            <a:endParaRPr b="0" lang="en-US" sz="32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Branimir Ackovic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acko@scl.rs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cientific Computing Laboratory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Institute of Physics Belgrade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Serbia</a:t>
            </a:r>
            <a:endParaRPr b="0" lang="en-US" sz="20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55680" y="1951200"/>
            <a:ext cx="6518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44800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429000" y="158760"/>
            <a:ext cx="5486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cg-infosites command usag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1143000"/>
            <a:ext cx="86868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25faf"/>
                </a:solidFill>
                <a:latin typeface="Arial"/>
              </a:rPr>
              <a:t>$ lcg-infosites --vo &lt;vo&gt; &lt;option&gt; -v &lt;verbosity&gt; -f &lt;site&gt; --is &lt;bdii&gt;</a:t>
            </a:r>
            <a:endParaRPr b="0" lang="en-US" sz="22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$ lcg-infosites --vo aegis c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$ lcg-infosites --vo aegis c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$ lcg-infosites --vo aegis closeS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254320" y="66600"/>
            <a:ext cx="67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5960" y="974880"/>
            <a:ext cx="8589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Grid Computing Hands On Training for Users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4A1E2-FD38-4DC5-A976-0FB7905341E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429000" y="157320"/>
            <a:ext cx="548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cg-info command usag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13716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$ lcg-info –list-attrs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$ lcg-info --list-se --query 'SE=se.csk.kg.ac.yu' --attrs CloseC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0" y="158760"/>
            <a:ext cx="6858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DejaVu Sans"/>
              </a:rPr>
              <a:t>ldap search examples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9200" y="90324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# RESOURCE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ldapsearch -x -H ldap://ce64.phy.bg.ac.yu:2170/ -b 'Mds-vo-name=resource,o=Grid'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# sBDII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ldapsearch -x -H ldap://ce64.phy.bg.ac.yu:2170 -b mds-vo-name=AEGIS01-PHY-SCL,o=grid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# top-level BDII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25faf"/>
                </a:solidFill>
                <a:latin typeface="Arial"/>
              </a:rPr>
              <a:t>ldapsearch -x -H ldap://bdii.phy.bg.ac.yu:2170/ -b 'Mds-vo-name=local,o=Grid'</a:t>
            </a: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2:02Z</dcterms:created>
  <dc:creator>Dusan Vudragovic</dc:creator>
  <dc:description/>
  <cp:keywords>Grid Computing Hands On Training for Users</cp:keywords>
  <dc:language>en-US</dc:language>
  <cp:lastModifiedBy>Dusan Vudragovic</cp:lastModifiedBy>
  <cp:lastPrinted>2009-01-23T08:59:10Z</cp:lastPrinted>
  <dcterms:modified xsi:type="dcterms:W3CDTF">2009-04-24T15:16:45Z</dcterms:modified>
  <cp:revision>35</cp:revision>
  <dc:subject/>
  <dc:title>Grid Computing Hands On Training for Users</dc:title>
</cp:coreProperties>
</file>