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7803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3608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0092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708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0092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9708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3608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37803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3608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0092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708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0092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708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53608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904760" y="37803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53608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0092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69708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90476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0092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69708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3608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3" marL="1681200" indent="-385920">
              <a:spcBef>
                <a:spcPts val="7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4" marL="2070000" indent="-3873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904760" y="655272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AEGIS 2008 Annual Assemb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0" y="0"/>
            <a:ext cx="18288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BankGothic Md BT"/>
            </a:endParaRPr>
          </a:p>
        </p:txBody>
      </p:sp>
      <p:pic>
        <p:nvPicPr>
          <p:cNvPr id="4" name="Picture 16" descr="Medusa02"/>
          <p:cNvPicPr/>
          <p:nvPr/>
        </p:nvPicPr>
        <p:blipFill>
          <a:blip r:embed="rId2"/>
          <a:stretch/>
        </p:blipFill>
        <p:spPr>
          <a:xfrm>
            <a:off x="76320" y="304920"/>
            <a:ext cx="1676160" cy="1562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17"/>
          <p:cNvSpPr/>
          <p:nvPr/>
        </p:nvSpPr>
        <p:spPr>
          <a:xfrm>
            <a:off x="228600" y="198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Verdana"/>
                <a:ea typeface="Verdana"/>
              </a:rPr>
              <a:t>A E G I S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</p:txBody>
      </p:sp>
      <p:sp>
        <p:nvSpPr>
          <p:cNvPr id="6" name="Text Box 18"/>
          <p:cNvSpPr/>
          <p:nvPr/>
        </p:nvSpPr>
        <p:spPr>
          <a:xfrm>
            <a:off x="0" y="6553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Verdana"/>
              </a:rPr>
              <a:t>11 December 2008</a:t>
            </a:r>
            <a:endParaRPr b="0" lang="en-US" sz="1200" spc="-1" strike="noStrike">
              <a:solidFill>
                <a:srgbClr val="292929"/>
              </a:solidFill>
              <a:latin typeface="BankGothic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0" y="0"/>
            <a:ext cx="18288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BankGothic Md BT"/>
            </a:endParaRPr>
          </a:p>
        </p:txBody>
      </p:sp>
      <p:pic>
        <p:nvPicPr>
          <p:cNvPr id="44" name="Picture 21" descr="aegis"/>
          <p:cNvPicPr/>
          <p:nvPr/>
        </p:nvPicPr>
        <p:blipFill>
          <a:blip r:embed="rId2"/>
          <a:stretch/>
        </p:blipFill>
        <p:spPr>
          <a:xfrm>
            <a:off x="2403360" y="3581280"/>
            <a:ext cx="3006720" cy="3124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5"/>
          <p:cNvSpPr/>
          <p:nvPr/>
        </p:nvSpPr>
        <p:spPr>
          <a:xfrm>
            <a:off x="1828800" y="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Verdana"/>
                <a:ea typeface="Verdana"/>
              </a:rPr>
              <a:t>AEGIS 2008 Annual Assembly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</p:txBody>
      </p:sp>
      <p:pic>
        <p:nvPicPr>
          <p:cNvPr id="46" name="Picture 27" descr="EGEE_blue_web"/>
          <p:cNvPicPr/>
          <p:nvPr/>
        </p:nvPicPr>
        <p:blipFill>
          <a:blip r:embed="rId3"/>
          <a:stretch/>
        </p:blipFill>
        <p:spPr>
          <a:xfrm>
            <a:off x="6524640" y="3657600"/>
            <a:ext cx="1828800" cy="1216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SEEGRIDSCI-logo-medium.jpg"/>
          <p:cNvPicPr/>
          <p:nvPr/>
        </p:nvPicPr>
        <p:blipFill>
          <a:blip r:embed="rId4"/>
          <a:stretch/>
        </p:blipFill>
        <p:spPr>
          <a:xfrm>
            <a:off x="6087960" y="4876920"/>
            <a:ext cx="275112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8"/>
          <p:cNvSpPr/>
          <p:nvPr/>
        </p:nvSpPr>
        <p:spPr>
          <a:xfrm>
            <a:off x="0" y="6553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Verdana"/>
              </a:rPr>
              <a:t>11 December 2008</a:t>
            </a:r>
            <a:endParaRPr b="0" lang="en-US" sz="1200" spc="-1" strike="noStrike">
              <a:solidFill>
                <a:srgbClr val="292929"/>
              </a:solidFill>
              <a:latin typeface="BankGothic Md B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3" marL="1681200" indent="-385920">
              <a:spcBef>
                <a:spcPts val="7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4" marL="2070000" indent="-3873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5"/>
          <p:cNvSpPr/>
          <p:nvPr/>
        </p:nvSpPr>
        <p:spPr>
          <a:xfrm>
            <a:off x="0" y="0"/>
            <a:ext cx="18288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BankGothic Md BT"/>
            </a:endParaRPr>
          </a:p>
        </p:txBody>
      </p:sp>
      <p:pic>
        <p:nvPicPr>
          <p:cNvPr id="88" name="Picture 16" descr="Medusa02"/>
          <p:cNvPicPr/>
          <p:nvPr/>
        </p:nvPicPr>
        <p:blipFill>
          <a:blip r:embed="rId2"/>
          <a:stretch/>
        </p:blipFill>
        <p:spPr>
          <a:xfrm>
            <a:off x="76320" y="304920"/>
            <a:ext cx="167616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7"/>
          <p:cNvSpPr/>
          <p:nvPr/>
        </p:nvSpPr>
        <p:spPr>
          <a:xfrm>
            <a:off x="228600" y="198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Verdana"/>
                <a:ea typeface="Verdana"/>
              </a:rPr>
              <a:t>A E G I S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0" y="6553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Verdana"/>
              </a:rPr>
              <a:t>11 December 2008</a:t>
            </a:r>
            <a:endParaRPr b="0" lang="en-US" sz="1200" spc="-1" strike="noStrike">
              <a:solidFill>
                <a:srgbClr val="292929"/>
              </a:solidFill>
              <a:latin typeface="BankGothic Md B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3" marL="1681200" indent="-385920">
              <a:spcBef>
                <a:spcPts val="7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4" marL="2070000" indent="-3873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2"/>
          </p:nvPr>
        </p:nvSpPr>
        <p:spPr>
          <a:xfrm>
            <a:off x="1904760" y="655272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92929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92929"/>
                </a:solidFill>
                <a:latin typeface="Verdana"/>
                <a:ea typeface="Verdana"/>
              </a:rPr>
              <a:t>AEGIS 2008 Annual Assemb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abelic@phy.bg.ac.y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>
            <a:off x="1981080" y="762120"/>
            <a:ext cx="6934320" cy="25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Verdana"/>
              </a:rPr>
              <a:t>European perspective on grid eInfrastrucuture developments</a:t>
            </a:r>
            <a:endParaRPr b="0" lang="en-US" sz="2400" spc="-1" strike="noStrike">
              <a:solidFill>
                <a:srgbClr val="292929"/>
              </a:solidFill>
              <a:latin typeface="BankGothic Md BT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BankGothic Md B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Verdana"/>
              </a:rPr>
              <a:t>Aleksandar Belic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Verdana"/>
              </a:rPr>
              <a:t>Institute of Physics Belgrade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292929"/>
                </a:solidFill>
                <a:latin typeface="Verdana"/>
              </a:rPr>
              <a:t>Serbia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Verdana"/>
              </a:rPr>
              <a:t>abelic@phy.bg.ac.yu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HPC иницијативе релевантне за Срби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I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Verdana"/>
              </a:rPr>
              <a:t>Европски ниво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1" marL="870840" indent="-430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Два паралелна развоја: Суперкомпјутинг и Грид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1" marL="870840" indent="-430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Суперкомпјутинг: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Велики национални рачунарски центри (високо на TOP500 листи) се удружују у DEISA и DEISA-2 пројекте.</a:t>
            </a:r>
            <a:endParaRPr b="0" lang="en-US" sz="14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Покрећу PRACE иницијативу да се изгради пирамидална структура HPC центара (Tier0 на европском нивоу, Tier1 на националном, Tier2 на нивоу појединих институција, итд).</a:t>
            </a:r>
            <a:endParaRPr b="0" lang="en-US" sz="14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Србија се прикључује крајем 2008.</a:t>
            </a:r>
            <a:endParaRPr b="0" lang="en-US" sz="1400" spc="-1" strike="noStrike">
              <a:solidFill>
                <a:srgbClr val="292929"/>
              </a:solidFill>
              <a:latin typeface="Verdana"/>
            </a:endParaRPr>
          </a:p>
          <a:p>
            <a:pPr lvl="1" marL="870840" indent="-430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Грид: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Дистрибуирани ресурси уједињени у јединствену Грид платформу у EGEE, EGEE-II, и EGEE-III пројектима.</a:t>
            </a:r>
            <a:endParaRPr b="0" lang="en-US" sz="14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Покрећу EGI_DS иницијативу да осмисли будућу пан-европску Грид инсталацију</a:t>
            </a:r>
            <a:endParaRPr b="0" lang="en-US" sz="14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Србија се прикључује 2006, постаје утицајан члан 2008.</a:t>
            </a:r>
            <a:endParaRPr b="0" lang="en-US" sz="1400" spc="-1" strike="noStrike">
              <a:solidFill>
                <a:srgbClr val="292929"/>
              </a:solidFill>
              <a:latin typeface="Verdana"/>
            </a:endParaRPr>
          </a:p>
          <a:p>
            <a:pPr marL="438840" indent="-438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Verdana"/>
              </a:rPr>
              <a:t>Напомена: EC ће обезбедити да се ове две иницијативе развијају усаглашено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1905120" y="65530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92929"/>
                </a:solidFill>
                <a:latin typeface="Verdana"/>
              </a:rPr>
              <a:t>AEGIS 2008 Annual Assembly</a:t>
            </a:r>
            <a:endParaRPr b="0" lang="en-US" sz="1000" spc="-1" strike="noStrike">
              <a:solidFill>
                <a:srgbClr val="292929"/>
              </a:solidFill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PC иницијативе релевантне за Србију (II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Verdana"/>
              </a:rPr>
              <a:t>Регионални ниво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Почевши од Акционог плана за научно-технолошки развој SEE региона (Солун 2003), регион се организује у SEE-GRID, SEE-GRID-2, и SEE-GRID-SCI пројекте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Србија је један од покретача иницијативе 2003, и руководи Грид инфраструктуром SEE региона од 2006.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AEGIS01 је највећи SEE сајт од почетка 2008.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Изграђена је јака bottom-up интеграција са RS, CG, MK, AL, BG, EL.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Verdana"/>
              </a:rPr>
              <a:t>Национални ниво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Институције које препознају важност HPC се удружују у AEGIS 2005, а 2007 потписују MoU о заједничком деловању и формирају JRU.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Verdana"/>
                <a:ea typeface="ＭＳ Ｐゴシック"/>
              </a:rPr>
              <a:t>Оперативно 7 сајтова (ИФ - 2, РЦУБ, ЕТФ, ЕЛФАК, СЦКГ, АОБ) + 2 у припреми (ПМФНС/ПОЉНС, SEWA)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EGIS initiativ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EGIS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demic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ucational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i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itiative of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rbia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ational Grid Initiative that will organize and run Serbian eInfrastructure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asic principles: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presentative – include all relevant institution nation-wide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clusive - open for all R&amp;D and HiEd actors willing to share recourses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cognized – by the relevant Government bodies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present Serbian GRID community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vide forum for 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changing experiences and expertise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ressing development, technical, and organizational issues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rganize and run Serbian eInfrastructure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EGIS MoU 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Motivation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undertaken in response to the growing need for high performance computing resources,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building on 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lvl="2" marL="1280880" indent="-3988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existing capacities (computing and human resources) 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2" marL="1280880" indent="-3988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experience in operating and using Grid eInfrastructure. 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continuation of successful ongoing collaboration following the AEGIS Inauguration Meeting held on April 14, 2005.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uration: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5 (five) years. 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tact person: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r Aleksandar Belić, Institute of Physics Belgrade, </a:t>
            </a:r>
            <a:br>
              <a:rPr sz="2400"/>
            </a:b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e-mail: </a:t>
            </a:r>
            <a:r>
              <a:rPr b="0" lang="it-IT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abelic@phy.bg.ac.yu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EGIS MoU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Objective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ordinate efforts to further develop academic and educational high performance computing facilities (e.g. computing nodes, storage, instruments, and visualization resources) and help to integrate them into AEGIS infrastructure;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rganize dissemination and training activities and help to develop and deploy applications that will benefit from the use of AEGIS infrastructure;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ordinate fund raising efforts to improve AEGIS infrastructure and human resources;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acilitate wider participation of AEGIS members in national and international Grid projects;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lp create a national GRID development policy, and support its positioning within an overall National research agenda.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nlargement: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terested and competent institutions, based on their experience and capacity to promote and fulfill the AEGIS MoU objectives.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gned by 7 institutions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Будући развој 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92929"/>
                </a:solidFill>
                <a:latin typeface="Verdana"/>
              </a:rPr>
              <a:t>Даље јачање националне е-инфраструктуре: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Национална суперрачунарска инсталација „Плави Дунав“ (европски Т1)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разграната мрежа европских Т2 рачунарских центара  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интеграција у Ев. </a:t>
            </a:r>
            <a:r>
              <a:rPr b="0" i="1" lang="en-US" sz="1800" spc="-1" strike="noStrike">
                <a:solidFill>
                  <a:srgbClr val="292929"/>
                </a:solidFill>
                <a:latin typeface="Verdana"/>
              </a:rPr>
              <a:t>HPC</a:t>
            </a: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 е-инфраструктуре; </a:t>
            </a:r>
            <a:br>
              <a:rPr sz="1800"/>
            </a:b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водећа улога у југоисточној Европи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92929"/>
                </a:solidFill>
                <a:latin typeface="Verdana"/>
              </a:rPr>
              <a:t>Унапређење људских ресурса: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Т1 инсталација – 20 врхунских стручњака </a:t>
            </a:r>
            <a:br>
              <a:rPr sz="1800"/>
            </a:b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(већи део повратници из дијаспоре)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Т2 мрежа – 50 стручњака 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обука за коришћење </a:t>
            </a:r>
            <a:r>
              <a:rPr b="0" i="1" lang="en-US" sz="1800" spc="-1" strike="noStrike">
                <a:solidFill>
                  <a:srgbClr val="292929"/>
                </a:solidFill>
                <a:latin typeface="Verdana"/>
              </a:rPr>
              <a:t>HPC</a:t>
            </a: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 ресурса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програм сарадње и реинтеграције ИТ стручњака из дијаспоре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формирање критичне масе стручњака у овој приоритетној области 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lvl="2" marL="1267920" indent="-39492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Verdana"/>
              </a:rPr>
              <a:t>повећање интересовања младих за ИТ сектор</a:t>
            </a:r>
            <a:endParaRPr b="0" lang="en-US" sz="1800" spc="-1" strike="noStrike">
              <a:solidFill>
                <a:srgbClr val="292929"/>
              </a:solidFill>
              <a:latin typeface="Verdan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Будући развој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92929"/>
                </a:solidFill>
                <a:latin typeface="Verdana"/>
              </a:rPr>
              <a:t>Повећање конкурентности научно-истраживачког сектора: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292929"/>
                </a:solidFill>
                <a:latin typeface="Verdana"/>
              </a:rPr>
              <a:t>обезбеђен приступ врхунским рачунарским ресурсима за српске истраживаче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292929"/>
                </a:solidFill>
                <a:latin typeface="Verdana"/>
              </a:rPr>
              <a:t>подршка корисницима </a:t>
            </a:r>
            <a:r>
              <a:rPr b="0" i="1" lang="en-US" sz="1600" spc="-1" strike="noStrike">
                <a:solidFill>
                  <a:srgbClr val="292929"/>
                </a:solidFill>
                <a:latin typeface="Verdana"/>
              </a:rPr>
              <a:t>HPC</a:t>
            </a:r>
            <a:r>
              <a:rPr b="0" lang="sr-CS" sz="1600" spc="-1" strike="noStrike">
                <a:solidFill>
                  <a:srgbClr val="292929"/>
                </a:solidFill>
                <a:latin typeface="Verdana"/>
              </a:rPr>
              <a:t> инфраструктуре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292929"/>
                </a:solidFill>
                <a:latin typeface="Verdana"/>
              </a:rPr>
              <a:t>обједињена набавка софтвера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92929"/>
                </a:solidFill>
                <a:latin typeface="Verdana"/>
              </a:rPr>
              <a:t>Отварање нових истраживачко-развојних могућности: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292929"/>
                </a:solidFill>
                <a:latin typeface="Verdana"/>
              </a:rPr>
              <a:t>симулација климатских промена у региону 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292929"/>
                </a:solidFill>
                <a:latin typeface="Verdana"/>
              </a:rPr>
              <a:t>развој метеоролошких модела у пољопривреди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292929"/>
                </a:solidFill>
                <a:latin typeface="Verdana"/>
              </a:rPr>
              <a:t>анализа интегритета конструкција, процена преосталог века капиталних објеката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292929"/>
                </a:solidFill>
                <a:latin typeface="Verdana"/>
              </a:rPr>
              <a:t>апликације у физичким наукама и науци о материјалима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292929"/>
                </a:solidFill>
                <a:latin typeface="Verdana"/>
              </a:rPr>
              <a:t>биомедицинске апликације 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292929"/>
                </a:solidFill>
                <a:latin typeface="Verdana"/>
              </a:rPr>
              <a:t>дигитализација националне културне баштине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92929"/>
                </a:solidFill>
                <a:latin typeface="Verdana"/>
              </a:rPr>
              <a:t>Сарадња са привредом: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292929"/>
                </a:solidFill>
                <a:latin typeface="Verdana"/>
              </a:rPr>
              <a:t>развој и имплементација масивно паралелних симулација за индустријску примену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23:01:23Z</dcterms:created>
  <dc:creator>Dusan Vudragovic</dc:creator>
  <dc:description/>
  <cp:keywords/>
  <dc:language>en-US</dc:language>
  <cp:lastModifiedBy>Dusan Vudragovic</cp:lastModifiedBy>
  <dcterms:modified xsi:type="dcterms:W3CDTF">2008-12-11T12:25:22Z</dcterms:modified>
  <cp:revision>84</cp:revision>
  <dc:subject>AEGIS 2008 Annual Assembly, Belgrade, 11 December 2008</dc:subject>
  <dc:title>Slide 1</dc:title>
</cp:coreProperties>
</file>