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856800" cy="673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856800" cy="67327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427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84680" y="0"/>
            <a:ext cx="427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3107880" y="504360"/>
            <a:ext cx="3629160" cy="25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312560" y="3198960"/>
            <a:ext cx="7211880" cy="30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6272280"/>
            <a:ext cx="427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2"/>
          </p:nvPr>
        </p:nvSpPr>
        <p:spPr>
          <a:xfrm>
            <a:off x="5584680" y="6392880"/>
            <a:ext cx="4253040" cy="318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6800" bIns="4680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  <a:ea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8540B-07E4-4982-8BA1-B4A635C2F013}" type="slidenum">
              <a:rPr b="0" lang="en-GB" sz="1200" spc="-1" strike="noStrike">
                <a:solidFill>
                  <a:srgbClr val="000000"/>
                </a:solidFill>
                <a:latin typeface="Tahom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368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51480" bIns="46800" anchor="b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CBA46-18E6-4BD3-9BDC-BA3B6CF406AB}" type="slidenum">
              <a:rPr b="1" lang="en-GB" sz="1200" spc="-1" strike="noStrike">
                <a:solidFill>
                  <a:srgbClr val="000000"/>
                </a:solidFill>
                <a:latin typeface="Tahoma"/>
                <a:ea typeface="DejaVu Sans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368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368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368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368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108240" y="504720"/>
            <a:ext cx="3646440" cy="25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368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108240" y="504720"/>
            <a:ext cx="363240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1368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47880"/>
            <a:ext cx="8494560" cy="55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2760" y="4028760"/>
            <a:ext cx="8974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81040" y="16653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276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81040" y="4028760"/>
            <a:ext cx="43790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1684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51280" y="16653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76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1684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51280" y="4028760"/>
            <a:ext cx="2889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AEGIS Training for Site Administrators, Institute of Physics Belgrade, December 10-11, 2008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‹#›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0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06120" cy="847800"/>
          </a:xfrm>
          <a:prstGeom prst="rect">
            <a:avLst/>
          </a:prstGeom>
          <a:gradFill rotWithShape="0">
            <a:gsLst>
              <a:gs pos="0">
                <a:srgbClr val="38007f"/>
              </a:gs>
              <a:gs pos="100000">
                <a:srgbClr val="6600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45200" y="2909880"/>
            <a:ext cx="2743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  <a:ea typeface="DejaVu Sans"/>
              </a:rPr>
              <a:t>www.see-grid-sci.e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38960" y="152280"/>
            <a:ext cx="362268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DejaVu Sans"/>
              </a:rPr>
              <a:t>SEE-GRID-SCI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0" y="865080"/>
            <a:ext cx="990612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6556320"/>
            <a:ext cx="9906120" cy="36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43640" y="1787400"/>
            <a:ext cx="3255840" cy="216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0" y="6578640"/>
            <a:ext cx="9888480" cy="2779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The SEE-GRID-SCI initiative is co-funded by the European Commission under the FP7 Research Infrastructures contract no. 2113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58656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9400" bIns="47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AEGIS Training for Site Administrators, Institute of Physics Belgrade, December 10-11, 2008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	</a:t>
            </a:r>
            <a:fld id="{17E9C01C-BED7-4D8B-9D00-AD9368D55334}" type="slidenum">
              <a:rPr b="1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1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3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6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7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 flipV="1">
            <a:off x="0" y="1116000"/>
            <a:ext cx="8489880" cy="46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573960"/>
            <a:ext cx="99061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849456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82760" y="1665360"/>
            <a:ext cx="8974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8"/>
          </p:nvPr>
        </p:nvSpPr>
        <p:spPr>
          <a:xfrm>
            <a:off x="0" y="6564240"/>
            <a:ext cx="9888480" cy="2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iki.egee-see.org/index.php/SG_GLITE-3_Guide" TargetMode="External"/><Relationship Id="rId2" Type="http://schemas.openxmlformats.org/officeDocument/2006/relationships/hyperlink" Target="https://twiki.cern.ch/twiki/bin/view/LCG/YaimGuide400" TargetMode="External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72880" y="1787400"/>
            <a:ext cx="614556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Verdana"/>
                <a:ea typeface="DejaVu Sans"/>
              </a:rPr>
              <a:t>DPM Hands-on Session</a:t>
            </a:r>
            <a:endParaRPr b="1" lang="en-US" sz="2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" y="5238720"/>
            <a:ext cx="6041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86040" bIns="47880" anchor="t">
            <a:noAutofit/>
          </a:bodyPr>
          <a:p>
            <a:pPr algn="r">
              <a:lnSpc>
                <a:spcPct val="8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  <a:ea typeface="DejaVu Sans"/>
              </a:rPr>
              <a:t>Branimir Acković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  <a:ea typeface="DejaVu Sans"/>
              </a:rPr>
              <a:t>Scientific Computing Laboratory, Institute of Physic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  <a:ea typeface="DejaVu Sans"/>
              </a:rPr>
              <a:t>Belgrade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  <a:ea typeface="DejaVu Sans"/>
              </a:rPr>
              <a:t>Serbia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  <a:ea typeface="DejaVu Sans"/>
              </a:rPr>
              <a:t>acko@scl.r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  <a:ea typeface="DejaVu Sans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8320" bIns="478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The SEE-GRID-SCI initiative is co-funded by the European Commission under the FP7 Research Infrastructures contract no. 21133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30120" y="3665520"/>
            <a:ext cx="60771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algn="r">
              <a:lnSpc>
                <a:spcPct val="91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  <a:ea typeface="DejaVu Sans"/>
              </a:rPr>
              <a:t>AEGIS Training for Site Administrator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360" y="-1440"/>
            <a:ext cx="8510760" cy="11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1012680" indent="-10126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268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PM Ro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2680" indent="-10126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268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PM wo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2680" indent="-10126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268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einfo.def DPM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2680" indent="-10126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268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PM Instal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012680" indent="-10126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268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PM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PM Roots, How DPM Work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82760" y="1665360"/>
            <a:ext cx="89899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669960" indent="-66996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996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a to use unused disk space on service and worker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69960" indent="-66996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996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PM 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69960" indent="-66996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66996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PM d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iteinfo.def DPM Variables 1/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8280" y="1523520"/>
            <a:ext cx="899028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rmAutofit fontScale="71000"/>
          </a:bodyPr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##############################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DPM configuration variables #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##############################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name of the DPM head n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Adjust according to your s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_HOST="rti29.$MY_DOMAIN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DPM pool name (max 15 character long nam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Adjust according to your si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POOL="pool-all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filesystems/partitions parts of the po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Adjust according to your si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_FILESYSTEMS="$DPM_HOST:/storage/data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Directory where the data is stored (absolute path, e.g. /storage). on a DPM n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Deprecated in favour of DPM_FILE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DPMDATA=/stor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database u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Adjust according to your si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_DB_USER=aegisdpmu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36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iteinfo.def DPM Variables 2/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8280" y="1523520"/>
            <a:ext cx="899028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rmAutofit fontScale="78000"/>
          </a:bodyPr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database user passwo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Adjust according to your si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_DB_PASSWORD=&lt;SET PASS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DPM database h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Adjust according to your si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_DB_HOST=$DPM_H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DPM db name. Default is dpm_d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_DB=dpm_d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DPNS db name. Default is cns_d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NS_DB=cns_d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DPM infosystem user na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Adjust according to your si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_INFO_USER=aegisdmpinf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The DPM infosystem user passwor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Adjust according to your si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_INFO_PASS=&lt;SET PASS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iteinfo.def DPM Variables 3/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8280" y="1523520"/>
            <a:ext cx="899028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Specifies the default amount of space reserved  for a f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MFSIZE=200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 Variable for the port range  - Optional, default value is sh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FIO_PORT_RANGE="20000 25000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The DPNS server base dir. Default value is home , i.e. the DPNS server is serving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/dpm/domain/home name space. If you have multiple DPNS server under the same domain u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#for example home2 or data for this valu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PNS_BASEDIR=ho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10760" cy="11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PM Installa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89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um install glite-SE_dpm_d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um install glite-SE_dpm_disk glite-SE_dpm_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1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2760" y="1665360"/>
            <a:ext cx="89913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46080"/>
            <a:ext cx="850752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PM Configura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82760" y="1665360"/>
            <a:ext cx="89899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DejaVu Sans"/>
              </a:rPr>
              <a:t>yaim -c -s &lt;path to site-info.def&gt; -n SE_dpm_disk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DejaVu Sans"/>
              </a:rPr>
              <a:t>yaim -c -s &lt;path to site-info.def&gt; -n SE_dpm_mysql -n SE_dpm_disk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-46080"/>
            <a:ext cx="8497800" cy="1192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elpful link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82400" y="1665000"/>
            <a:ext cx="8977320" cy="4708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75240" bIns="47880" anchor="t">
            <a:normAutofit/>
          </a:bodyPr>
          <a:p>
            <a:pPr marL="339840" indent="-33984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iki.egee-see.org/index.php/SG_GLITE-3_Gu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s://twiki.cern.ch/twiki/bin/view/LCG/YaimGuide4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iki.egee-see.org/index.php/DPM_SL4_64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9:33:51Z</dcterms:created>
  <dc:creator>Dusan Vudragovic</dc:creator>
  <dc:description/>
  <cp:keywords>SEE-GRID-SCI AEGIS SCL Training Site Administrator</cp:keywords>
  <dc:language>en-US</dc:language>
  <cp:lastModifiedBy>Branimir Ackovic</cp:lastModifiedBy>
  <dcterms:modified xsi:type="dcterms:W3CDTF">2008-12-11T08:03:59Z</dcterms:modified>
  <cp:revision>157</cp:revision>
  <dc:subject>AEGIS Training for Site Administrators</dc:subject>
  <dc:title>&lt;Presentation Title&gt; &lt;Presentation Subtitle&gt;</dc:title>
</cp:coreProperties>
</file>