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78D07-203E-47EF-8B18-72FD9CB967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5E74D-DBA3-4B43-9DC0-C0B780635E9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7D1C39-6C08-4BBD-9466-41A3D8EFB1E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F2C7C8-F393-46E0-8486-FCEC167E6B9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9FC696-8619-411E-ABA1-9745FC5E28D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2B547B-0164-4D12-9C32-FDC4A6E1373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C078A2-BA4F-4B7E-A5C8-A59F4FB4FD6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5F15DB-FF13-44B3-872F-97B88809B04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F4A266-F16A-4C80-A343-F16CA900F95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AA1591-6273-4998-9494-F4C59009A5E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D84401-6830-4769-B488-5E854FBBA92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CE8B2-E209-4663-B506-5BBA03DA2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A18B5-F960-43D4-AE2C-CA4498D456C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FD5CB-FB52-4F80-B809-7DE1CE0C929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E6E6E-3A6A-4BE1-BCAE-AB6FB7A2837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01979-F796-4836-BB31-A3705F22DF5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75A26-CC5D-4C27-B5C8-6E5FDD7E828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F8619-2662-4A1D-B511-F4C6CC92D3B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7E508-B56C-4796-AE7D-9C3D38513FB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79829-AFA3-4EC6-BE92-4006091215A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62FF0-47F3-4D52-9B26-368C5F080C5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F013D-FE12-40CD-8136-838A7C5451C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FD01A-ACC8-41AA-9DC2-A3A269A93B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2568F-1F04-49A6-BD3E-A261BA39176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0BD6E-D45D-41AE-A9BE-33AA8971B69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2BB82E-D9CD-457E-AC13-3695C76BD01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16AF49-FD31-41A5-98C1-60018692D0F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1EE149-1741-4D6B-9721-04CCF9FF481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16EF8D-814A-47A7-86FE-4563FC6C3A5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CA3857-C616-4AD0-ABF8-7BB7B9DF915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D2E779-D3BF-4AE3-A3D7-EA08B385784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0F4D18-017F-49B6-961A-691A0D13D30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A354A5-E7E9-4EF8-B565-B5484FA25B0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A179EC-3127-49B1-B857-CA255B3061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D90C08-A667-417E-9AE7-1A560145281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989C39-BA53-4037-9378-E8D7121F351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7A0C5A-5322-4138-B071-05811FE52CE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0C04A5-3D15-41CC-927A-2863127BEC8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5F72A1-9DBD-41FF-8554-7AA077C2833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303F59-3A0A-4C86-8127-E7A11F98943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FDC3EE-245B-4FAD-BD4E-46E540B89BA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C7BE0E-6839-4321-8ABB-CFB45495487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3EB590-9AAC-438E-B635-27F73F35A5F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1024ED-B2A4-4C42-AD4C-946F32AA14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754C45-42F3-4318-AEC9-E771BCF7658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CB92A2-2218-4811-909B-4F2F4F5B5F7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5B716D-95AC-4B0E-92C9-E072903E3C6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6A0F85-9451-4665-BFB8-55CDF26388D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66D084-E8F1-43AE-B213-974B4F9211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876F6-B613-403F-8E20-E11FE34A04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762884-E2B5-4E7E-99AA-7019BE29DAE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9C11C-17CC-4723-A9A5-D03105E358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79119-42B4-4F80-8F42-D59B3B4E748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9E7FD-2647-4A59-BE44-732B8F427AC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16E208-C034-40BD-A167-8A5FA66A8D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0D86F-68B2-44C5-9669-1A7A6D5EB5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C86E52-981C-4F8F-BFC5-5C00A187296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C7C7E-DE6F-4FA3-84CD-9A57BD5902E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6F856-3F2D-45B9-9101-D8694C77FEB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A8AA6-0160-4093-B891-9177A2F9FE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F301D-7D75-4751-899D-2F438E3919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C44A9-5C1D-4BB3-A325-354843FA71A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B0093-43CE-40A4-86F4-7B0CB713A7A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AB40-6B15-4A95-A634-9C42952EDCA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B38D-DAA5-4EAE-97FB-58417BF14B1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86E7-8835-457B-BD42-4CD0AA4C0B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4528E-F0D4-4613-810A-05478C57041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701B-8C2C-4C8E-ABA7-C8E8FED1616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C20D-C0BA-48CE-8081-9E3FED889B4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F879-7621-4F2F-A69F-782F5233B48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32E2-8285-46BE-92A9-E2036A1DAB3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8042-6244-4065-94AB-456528E8396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92C6-09B4-4821-A47F-84BEC36BF37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D758-6ED1-4BC4-BE5C-582ADA5D689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DB2C-B2BB-47C6-BFC7-D7407C15379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62DD-12A5-460B-AE98-22FFF45AB7D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93AB61-F37D-4273-8274-45D2500912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9951F-145C-45FE-90F3-7DFDC9DCD0A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195AEC-FF7F-4C89-8B10-62EFE783A24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680068-2832-4E26-B576-659D213B188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DE6A7B-D326-43E7-845F-6AC7150B904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3C6F6B-06B3-460E-A987-25FFBAAA1A9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ECDCE7-7A5E-4CFC-B88C-EB4B52C53FD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25419D-0EBF-46D3-8CC0-916309363AE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08B2EA-E709-4AE2-A0E5-A95B9ACE634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69C551-2658-4CA4-BA64-26D47E0BA8E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B69857-12EC-4F97-AC50-21296941614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001C52-220F-47A2-8F36-5DD8384F0A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2AB1B-9A6B-4ABD-9732-E093635639F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69C3BB-8CDF-4678-A6AA-FB43B24A30B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721A0A-1F77-49BE-A660-DF77EF4993F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EA2624-31E2-4C62-8C53-D62F728EBD5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5E1744-A89B-43E2-A789-63DF6231D78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7C1261-4653-46AE-924D-70DD8A16255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F8F805-3DB0-4BDD-8293-980365316A4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B3634A-4C2F-4B12-BA91-B00FA7EA841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1B9CFB-3C31-4451-9535-B3BD8F35DE4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5F294E-8662-4B9C-B1BD-165AAC7C747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A2A43D-A260-42C1-8E9E-FBFAD31029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DD2E1-37EB-473A-98D2-4B70DE56B45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A5E98A-6844-45A1-8734-F62FB84931C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C56C4C-4AFE-4AA0-9AE4-DFCDA525F8D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3A27D7-4E51-457D-9554-868E66F8F49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9036C-423A-4B43-839C-E17746F241D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2B0B5-F628-4453-A2D3-4324DE3C848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E5810-B9DB-40B3-AB85-3ABE1A8DC66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C0AE4-580E-43B8-82DB-5208AFFAD34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BF7ED-23B5-46A6-9B9A-3CB94A1DDC1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560BA-ACCB-465E-90B4-A8FDA37AADD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65252-0E91-455A-AEFD-C093D56F55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ABF0E-B1AF-40CA-982C-3ECDE8A53E5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3E93F-245B-4149-ABC3-896B16A2765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EE40D-151E-4C12-A403-09A57B09F74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C3092-4A40-43F6-9882-601FDC6CB09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9B1AE-3751-4F5A-A0A7-2AEC40427D1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22D3D-A241-49D2-BD9F-E6EE472DEB8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42A45C-BD3D-43A0-8FAC-65CE9B96F16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9D3156-D6ED-4013-A960-E48E01384FC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107892-3EA3-49E9-891D-40586707E04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1156EB-B001-4145-9659-817EE443180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159F87-A3B5-4CAF-9E13-3CB8D79E0B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A65ED-5E5B-4961-9DB7-145138A23EA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28ADDC-D432-4829-8935-BBDC3B37688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749EEC-E083-4A58-A919-DD9871E9E77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BE47BB-06BF-4302-B6B3-E44F95EF79D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F0CECA-592C-4912-8704-914BBB51E30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674481-8EDC-4FBF-A9D3-83F6AF94F08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0B0ADB-342F-4242-AF68-0A9041FC41F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502854-60BF-4634-88C5-799638E961B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9782E7-0253-4F98-AC5A-625A3B81608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97B84D-1BB6-4B80-A943-F7C1A92B403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BF0C42-AF71-4595-BE50-6AC8300DD1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wmf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C592-1F68-4EDD-BC7A-45506F5E907A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Rectangle 120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" name="Oval 121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7" name="Group 123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Text Box 130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1" name="Picture 136" descr="egee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40" name="Rectangle 13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41" name="Rectangle 120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42" name="Oval 121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443" name="Group 123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444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445" name="Text Box 130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446" name="Picture 136" descr="egee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ftr" idx="17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sldNum" idx="18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BC27-BABF-4CE9-B242-505F95475B9A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88" name="Rectangle 13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89" name="Rectangle 120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90" name="Oval 121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491" name="Group 123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492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493" name="Text Box 130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494" name="Picture 136" descr="egee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ftr" idx="19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0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E36B-25C5-4F8D-909B-3C1C5586B41F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36" name="Rectangle 13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37" name="Rectangle 120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38" name="Oval 121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539" name="Group 123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540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541" name="Text Box 130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42" name="Picture 136" descr="egee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ftr" idx="2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sldNum" idx="2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FAC6-0F60-4CB9-8FA9-1A8B9E699ADD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2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9" name="Rectangle 24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0" name="Rectangle 31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1" name="Rectangle 39"/>
          <p:cNvSpPr/>
          <p:nvPr/>
        </p:nvSpPr>
        <p:spPr>
          <a:xfrm>
            <a:off x="4341960" y="20160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2" name="Oval 40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3" name="Picture 46" descr="eu_logo2"/>
          <p:cNvPicPr/>
          <p:nvPr/>
        </p:nvPicPr>
        <p:blipFill>
          <a:blip r:embed="rId2"/>
          <a:stretch/>
        </p:blipFill>
        <p:spPr>
          <a:xfrm>
            <a:off x="7797960" y="4941720"/>
            <a:ext cx="809640" cy="571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8"/>
          <p:cNvSpPr/>
          <p:nvPr/>
        </p:nvSpPr>
        <p:spPr>
          <a:xfrm>
            <a:off x="0" y="649116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Verdana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5" name="Picture 53" descr="egee_bigger"/>
          <p:cNvPicPr/>
          <p:nvPr/>
        </p:nvPicPr>
        <p:blipFill>
          <a:blip r:embed="rId3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6"/>
          <p:cNvSpPr/>
          <p:nvPr/>
        </p:nvSpPr>
        <p:spPr>
          <a:xfrm>
            <a:off x="4903920" y="95400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7" name="Picture 59" descr="EGEE 30y"/>
          <p:cNvPicPr/>
          <p:nvPr/>
        </p:nvPicPr>
        <p:blipFill>
          <a:blip r:embed="rId4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2"/>
          <p:cNvSpPr/>
          <p:nvPr/>
        </p:nvSpPr>
        <p:spPr>
          <a:xfrm>
            <a:off x="0" y="5643720"/>
            <a:ext cx="1868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Apr. 25, 2009</a:t>
            </a:r>
            <a:endParaRPr b="0" lang="en-US" sz="1600" spc="-1" strike="noStrike">
              <a:solidFill>
                <a:srgbClr val="325fa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9" name="Picture 66" descr=""/>
          <p:cNvPicPr/>
          <p:nvPr/>
        </p:nvPicPr>
        <p:blipFill>
          <a:blip r:embed="rId5"/>
          <a:stretch/>
        </p:blipFill>
        <p:spPr>
          <a:xfrm>
            <a:off x="7440480" y="5673600"/>
            <a:ext cx="1524240" cy="619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6" descr="SCL6hor"/>
          <p:cNvPicPr/>
          <p:nvPr/>
        </p:nvPicPr>
        <p:blipFill>
          <a:blip r:embed="rId6"/>
          <a:stretch/>
        </p:blipFill>
        <p:spPr>
          <a:xfrm>
            <a:off x="152280" y="5181480"/>
            <a:ext cx="152424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9" descr="EGEE_blue_web"/>
          <p:cNvPicPr/>
          <p:nvPr/>
        </p:nvPicPr>
        <p:blipFill>
          <a:blip r:embed="rId7"/>
          <a:stretch/>
        </p:blipFill>
        <p:spPr>
          <a:xfrm>
            <a:off x="4087800" y="5205240"/>
            <a:ext cx="1303200" cy="865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7" descr="aegis"/>
          <p:cNvPicPr/>
          <p:nvPr/>
        </p:nvPicPr>
        <p:blipFill>
          <a:blip r:embed="rId8"/>
          <a:stretch/>
        </p:blipFill>
        <p:spPr>
          <a:xfrm>
            <a:off x="1900080" y="4660920"/>
            <a:ext cx="1879920" cy="1952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7" descr="SEEGRIDSCI.jpg"/>
          <p:cNvPicPr/>
          <p:nvPr/>
        </p:nvPicPr>
        <p:blipFill>
          <a:blip r:embed="rId9"/>
          <a:stretch/>
        </p:blipFill>
        <p:spPr>
          <a:xfrm>
            <a:off x="5772240" y="5140440"/>
            <a:ext cx="1500120" cy="995400"/>
          </a:xfrm>
          <a:prstGeom prst="rect">
            <a:avLst/>
          </a:prstGeom>
          <a:ln w="0">
            <a:noFill/>
          </a:ln>
        </p:spPr>
      </p:pic>
      <p:sp>
        <p:nvSpPr>
          <p:cNvPr id="64" name="TextBox 28"/>
          <p:cNvSpPr/>
          <p:nvPr/>
        </p:nvSpPr>
        <p:spPr>
          <a:xfrm>
            <a:off x="2160000" y="1065240"/>
            <a:ext cx="51015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Grid Computing Hands On Training for Users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Faculty of Sciences, University of Novi Sad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05" name="Rectangle 120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06" name="Oval 121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107" name="Group 123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108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109" name="Text Box 130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10" name="Picture 136" descr="egee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ftr" idx="3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4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5AB5-D039-4D22-AB25-40297B6093DB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53" name="Rectangle 120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54" name="Oval 121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155" name="Group 123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156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157" name="Text Box 130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58" name="Picture 136" descr="egee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ftr" idx="5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sldNum" idx="6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DD08-EF20-4EDB-86EE-BF1383AB7ED4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1" name="Rectangle 120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2" name="Oval 121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203" name="Group 123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204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205" name="Text Box 130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206" name="Picture 136" descr="egee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7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8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0B10-99F2-410B-A802-44DABEE16864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48" name="Rectangle 13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49" name="Rectangle 120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50" name="Oval 121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251" name="Group 123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252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253" name="Text Box 130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254" name="Picture 136" descr="egee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9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0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665C-67A5-4145-9359-0C117CE1A73C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97" name="Rectangle 120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98" name="Oval 121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299" name="Group 123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300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301" name="Text Box 130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302" name="Picture 136" descr="egee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ftr" idx="1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1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17D0-1AF2-4EDD-81C7-39F25DB3F88D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344" name="Rectangle 13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345" name="Rectangle 120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346" name="Oval 121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347" name="Group 123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348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349" name="Text Box 130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350" name="Picture 136" descr="egee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13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14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BA7C-9364-40C8-886B-78BDAA5CA07D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392" name="Rectangle 13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393" name="Rectangle 120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394" name="Oval 121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395" name="Group 123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396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397" name="Text Box 130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398" name="Picture 136" descr="egee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ftr" idx="15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sldNum" idx="16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E43E-4C96-4B3C-B218-C7F872D76A46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2160720" y="3067200"/>
            <a:ext cx="651816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Slavni</a:t>
            </a:r>
            <a:r>
              <a:rPr b="1" i="1" lang="sr-Latn-CS" sz="2000" spc="-1" strike="noStrike">
                <a:solidFill>
                  <a:srgbClr val="2b519a"/>
                </a:solidFill>
                <a:latin typeface="Arial"/>
              </a:rPr>
              <a:t>ć</a:t>
            </a: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 Vladimir    slavnic@scl.r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Scientific Computing Laboratory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Institute of Physics Belgrad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Serbia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2155320" y="195084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Job collection submiss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Footer Placeholder 3"/>
          <p:cNvSpPr/>
          <p:nvPr/>
        </p:nvSpPr>
        <p:spPr>
          <a:xfrm>
            <a:off x="244800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Grid Computing Hands On Training for Users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ts of independent job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wo ways to define job collection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8f"/>
                </a:solidFill>
                <a:latin typeface="Arial"/>
              </a:rPr>
              <a:t>single jdl file </a:t>
            </a:r>
            <a:endParaRPr b="0" lang="en-US" sz="24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8f"/>
                </a:solidFill>
                <a:latin typeface="Arial"/>
              </a:rPr>
              <a:t>directory with  jdl files</a:t>
            </a:r>
            <a:endParaRPr b="0" lang="en-US" sz="24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Grid Computing Hands On Training for Users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89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7FED-3A04-4400-B030-AE27895CFA00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Example jdl fi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Type = "Collection";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InputSandbox = (“fileA”);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Requirements =  RegExp("ce64.phy.bg.ac.yu*",other.GlueCEUniqueID);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nodes = {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[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JobType = "normal";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Executable = "/bin/hostname";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Arguments = "-i";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StdOutput = "out";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InputSandbox = (root.InputSandbox, “fileB”);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StdError = "err";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OutputSandbox ={"out","err"};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],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[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JobType = "Normal";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Executable = "/bin/date";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StdOutput = "date";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StdError = "err";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OutputSandbox= {"date"};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]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};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2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Grid Computing Hands On Training for Users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93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6429-9834-473D-BA06-DE1098BA8E91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Submiss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$ g</a:t>
            </a:r>
            <a:r>
              <a:rPr b="1" lang="sr-Latn-CS" sz="2400" spc="-1" strike="noStrike">
                <a:solidFill>
                  <a:srgbClr val="2b519a"/>
                </a:solidFill>
                <a:latin typeface="Arial"/>
              </a:rPr>
              <a:t>lite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-wms-job-submit  -a  -o id collection.jd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$ glite-wms-job-status  -i id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Status info for the Job : https://wms.phy.bg.ac.yu:9000/rH7-nXcUYvSW_HxWzcArzQ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Current Status:     Waiting 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Submitted:          Fri Apr 24 21:56:39 2009 CEST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*************************************************************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- Nodes information for: 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Status info for the Job : https://wms.phy.bg.ac.yu:9000/U2a2GrhV1fdne2cLQ5oxLw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Current Status:     Submitted 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Submitted:          Fri Apr 24 21:56:39 2009 CEST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*************************************************************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    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Status info for the Job : https://wms.phy.bg.ac.yu:9000/f-HagbzEsDcSJd8IgBuPzg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Current Status:     Submitted 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Submitted:          Fri Apr 24 21:56:39 2009 CEST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*************************************************************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Grid Computing Hands On Training for Users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21D5-1F48-455E-AADD-A0A448E4F715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trieving results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$ g</a:t>
            </a:r>
            <a:r>
              <a:rPr b="1" lang="sr-Latn-CS" sz="2400" spc="-1" strike="noStrike">
                <a:solidFill>
                  <a:srgbClr val="2b519a"/>
                </a:solidFill>
                <a:latin typeface="Arial"/>
              </a:rPr>
              <a:t>lite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-wms-job-output -i id --dir kolekcija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$ ls kolekcija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ds_nodes.map  Node_0  Node_1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$  cat  kolekcija/Node_1/date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2b519a"/>
                </a:solidFill>
                <a:latin typeface="Arial"/>
              </a:rPr>
              <a:t>Fri Apr 24 21:57:12 CEST 2009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0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Grid Computing Hands On Training for Users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01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31F3-F68A-494A-877A-2BFB2D7C8DD6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ory submis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$ ls -l jdl/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job1.jdl   job2.jd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b519a"/>
                </a:solidFill>
                <a:latin typeface="Arial"/>
              </a:rPr>
              <a:t>$ glite-wms-job-submit -a --collection jdl</a:t>
            </a:r>
            <a:endParaRPr b="1" lang="en-US" sz="27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llowing is same as in the previous way of submission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4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Grid Computing Hands On Training for Users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05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4805-3A00-467D-8EB6-536DEF65D1E3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llections behaviou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lite-wms-job-output  &lt;collID&gt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lite-wms-job-cancel &lt;collID&gt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lite-wms-job-logging-info &lt;collID&gt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When single jobID is known it can be treated as any other job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8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Grid Computing Hands On Training for Users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09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BB13-FC0E-496F-99D0-DED8B25212AD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8:52:02Z</dcterms:created>
  <dc:creator>Dusan Vudragovic</dc:creator>
  <dc:description/>
  <cp:keywords>Grid Computing Hands On Training for Users</cp:keywords>
  <dc:language>en-US</dc:language>
  <cp:lastModifiedBy>ds</cp:lastModifiedBy>
  <cp:lastPrinted>2009-01-23T08:59:10Z</cp:lastPrinted>
  <dcterms:modified xsi:type="dcterms:W3CDTF">2009-04-25T04:37:31Z</dcterms:modified>
  <cp:revision>54</cp:revision>
  <dc:subject/>
  <dc:title>Grid Computing Hands On Training for Users</dc:title>
</cp:coreProperties>
</file>