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1A8B39-3E3A-46A7-BF67-CDDD2D3DF5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BE97BB-12AE-4DD9-8F9F-6EF5EEFDAE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C2E58128-0873-463C-877F-1A5955E56C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Overview of YAIM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Dusan Vudragovic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CL, Institute of Physics 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dusan@scl.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log fi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 logs  its  output 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log/yaim/yaim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 time  the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ai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is executed an entry is added to this logfile containing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 exec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other config files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ime and d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ersion of the installed YAIM RP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E-GRID-SCI YAIM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-GRID-SCI YAIM siteinfo directory template is available a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viewvc.scl.rs/viewvc/yaim/trunk/?root=see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ther useful inf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home pag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yaim.info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4 guide for sysadmi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twiki.cern.ch/twiki/bin/view/LCG/YaimGuide4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Status  Pag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twiki.cern.ch/twiki/bin/view/LCG/Yaim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ite 3.1 Generic Installation &amp; Configuration guid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twiki.cern.ch/twiki/bin/view/LCG/GenericInstallGuide3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hat is YAI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= Yaim Ain't an Installation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is software to configure Grid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provides simple configuration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has been implemented as a set of bash scri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upport the EGEE project's component based release model YAIM 4 has been modul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core is supplemented by component specific scripts, distributed as separate RP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8"/>
          <a:stretch/>
        </p:blipFill>
        <p:spPr>
          <a:xfrm>
            <a:off x="662040" y="5029200"/>
            <a:ext cx="3971880" cy="14320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4"/>
          <p:cNvSpPr/>
          <p:nvPr/>
        </p:nvSpPr>
        <p:spPr>
          <a:xfrm>
            <a:off x="4908600" y="5121360"/>
            <a:ext cx="4141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AIM’s logo – the yak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e yak is a long-haired humped domestic bovine found in Tibet and throughout the Himalayan region of south Central Asia, as well as in Mongolia.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e yak is not a gnu. 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AIM’s directory structure (1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directory structure is created un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unctions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unctions (bash scripts) to configure nod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unctions/local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e administrators can put here their own function definition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unctions/pre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is function exists, will be executed before the mai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unctions/post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is function exists, will be executed after the mai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node-info.d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file for each node type which defines the set of functions to be executed during the configuration of that nod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spcBef>
                <a:spcPts val="601"/>
              </a:spcBef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AIM’s directory structure (2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defaults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iles that will be sourc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fore and after the m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purpose is to give meaningful default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bin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in YAIM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log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IM's log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xamples/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AIM’s configuration directory structur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AIM allows having the site's configuration in a well separated and protected p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 has to sit in a directory (ex.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root/siteinfodir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which could contain the follow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in configuration file of the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s/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files are sourced only when that given service is configu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s/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files are sourced only when that given host is configu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.d/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 files can contain VO specific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.con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.con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nfigurable via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_CON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_CON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bin/yaim comm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opt/glite/yaim/bin/yaim &lt;action&gt; &lt;parameters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c | --configu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configure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r | --runfun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execute a configuration fun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v | --verif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check variables defin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d | --debu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logging leve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e | --expla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explains what the functions are do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h | --hel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hel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a | --availabl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available configuration targe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bin/yaim comm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me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s | --siteinf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location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n | --nodety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node name to config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f | --fun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function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00"/>
              </a:spcBef>
              <a:buSzPct val="102792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/yaim –c –s /root/siteinfo/site-info.def –n SE_dpm_mysql –d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00"/>
              </a:spcBef>
              <a:buSzPct val="102792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ning a function separately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/yaim –r –s /root/siteinfo/site-info.def –n LFC_mysql –f config_g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00"/>
              </a:spcBef>
              <a:buSzPct val="102792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y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/yaim –v –s /root/siteinfo/site-info.def –n SE_dpm_mysq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figuration flow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 launching  the  configuration  the  different  configuration  files  will  be  sourced and will  overwrite each other in the following 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defaults/site-info.p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defaults/myservice.p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root/siteinfo/site-info.de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defaults/site-info.po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defaults/myservice.po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root/siteinfo/services/mysev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root/siteinfo/nodes/my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root/siteinfo/vo.d/myv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node-info.d/myserv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figuration flow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 each  func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un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node-info.d/myserv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aim executes the followings if they are def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functions/pre/myfun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functions/local/myfun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functions/myfun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opt/glite/yaim/functions/post/myfun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9:45:21Z</dcterms:created>
  <dc:creator>Dusan Vudragovic</dc:creator>
  <dc:description/>
  <cp:keywords>SEE-GRID-SCI AEGIS SCL Training Site Administrator</cp:keywords>
  <dc:language>en-US</dc:language>
  <cp:lastModifiedBy>Dusan Vudragovic</cp:lastModifiedBy>
  <dcterms:modified xsi:type="dcterms:W3CDTF">2008-12-09T23:37:02Z</dcterms:modified>
  <cp:revision>149</cp:revision>
  <dc:subject>AEGIS Training for Site Administrators</dc:subject>
  <dc:title>&lt;Presentation Title&gt; &lt;Presentation Subtitle&gt;</dc:title>
</cp:coreProperties>
</file>