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18FD4B-34E1-43BF-9EEA-5CC4760D73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4F88D2-C00D-495E-8471-FA45D64A34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gional SEE-GRID-SCI Training for Site Administrators, Institute of Physics Belgrade, March 5-6, 2009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CF167E33-0087-4540-97B6-0FDD731EDE4F}" type="slidenum">
              <a:rPr b="0" lang="el-G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gional SEE-GRID-SCI Training for Site Administrators, Institute of Physics Belgrade, March 5-6, 2009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5B2A4511-84A6-4B96-B86E-87122FD519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&lt;Title&gt;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&lt;Name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&lt;Institution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&lt;E-mail&gt;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Regional SEE-GRID-SCI Training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Institute of Physics Belgra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March 5-6,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82760" y="1665000"/>
            <a:ext cx="89913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9:33:51Z</dcterms:created>
  <dc:creator>Dusan Vudragovic</dc:creator>
  <dc:description/>
  <cp:keywords>SEE-GRID-SCI AEGIS SCL Training Site Administrator</cp:keywords>
  <dc:language>en-US</dc:language>
  <cp:lastModifiedBy>Dusan Vudragovic</cp:lastModifiedBy>
  <dcterms:modified xsi:type="dcterms:W3CDTF">2009-03-04T10:29:06Z</dcterms:modified>
  <cp:revision>133</cp:revision>
  <dc:subject>Regional SEE-GRID-SCI Training for Site Administrators</dc:subject>
  <dc:title>&lt;Presentation Title&gt; &lt;Presentation Subtitle&gt;</dc:title>
</cp:coreProperties>
</file>