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907588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856800" cy="67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2"/>
          </p:nvPr>
        </p:nvSpPr>
        <p:spPr>
          <a:xfrm>
            <a:off x="5584320" y="-3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3107880" y="504720"/>
            <a:ext cx="3646440" cy="25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3"/>
          </p:nvPr>
        </p:nvSpPr>
        <p:spPr>
          <a:xfrm>
            <a:off x="0" y="63939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4"/>
          </p:nvPr>
        </p:nvSpPr>
        <p:spPr>
          <a:xfrm>
            <a:off x="5584320" y="63939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BAE38D-8705-4505-AE74-95B0EB25BB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3108240" y="504720"/>
            <a:ext cx="3646440" cy="25243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5584680" y="639432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96CD8D-608D-46E3-AAE7-2980AB3D8C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AEGIS Training for Site Administrators, Institute of Physics Belgrade, December 10-11, 2008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‹#›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" name="Picture 10" descr="SEEGRIDSCI-logo-medium.jpg"/>
          <p:cNvPicPr/>
          <p:nvPr/>
        </p:nvPicPr>
        <p:blipFill>
          <a:blip r:embed="rId3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8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9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0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6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9906120" cy="847800"/>
          </a:xfrm>
          <a:prstGeom prst="rect">
            <a:avLst/>
          </a:prstGeom>
          <a:gradFill rotWithShape="0">
            <a:gsLst>
              <a:gs pos="0">
                <a:srgbClr val="38007f"/>
              </a:gs>
              <a:gs pos="100000">
                <a:srgbClr val="6600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3722040" y="29098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ww.see-grid-sci.eu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5538960" y="152280"/>
            <a:ext cx="36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E-GRID-SCI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Line 33"/>
          <p:cNvSpPr/>
          <p:nvPr/>
        </p:nvSpPr>
        <p:spPr>
          <a:xfrm flipV="1">
            <a:off x="0" y="882360"/>
            <a:ext cx="9906120" cy="111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Line 34"/>
          <p:cNvSpPr/>
          <p:nvPr/>
        </p:nvSpPr>
        <p:spPr>
          <a:xfrm flipV="1">
            <a:off x="0" y="6573960"/>
            <a:ext cx="990612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Picture 12" descr="SEEGRIDSCI-logo-medium.jpg"/>
          <p:cNvPicPr/>
          <p:nvPr/>
        </p:nvPicPr>
        <p:blipFill>
          <a:blip r:embed="rId2"/>
          <a:stretch/>
        </p:blipFill>
        <p:spPr>
          <a:xfrm>
            <a:off x="6443640" y="1787400"/>
            <a:ext cx="3255840" cy="216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-36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EE-GRID-SCI initiative is co-funded by the European Commission under the FP7 Research Infrastructures contract no. 2113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58656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EGIS Training for Site Administrators, Institute of Physics Belgrade, December 10-11, 2008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fld id="{8D2C3808-816C-4015-8CAA-9CBFD0339AC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3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5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5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6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7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8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c01.grid.etfbl.ne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72520" y="1787400"/>
            <a:ext cx="614556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l-GR" sz="2700" spc="-1" strike="noStrike">
                <a:solidFill>
                  <a:srgbClr val="000099"/>
                </a:solidFill>
                <a:latin typeface="Verdana"/>
              </a:rPr>
              <a:t>Grid Operations Procedures</a:t>
            </a:r>
            <a:endParaRPr b="1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78000" y="5238720"/>
            <a:ext cx="60418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Antun Balaz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nstitute of Physics Belgrade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erbia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antun@phy.bg.ac.yu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EE-GRID-SCI initiative is co-funded by the European Commission under the FP7 Research Infrastructures contract no. 211338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29760" y="3665160"/>
            <a:ext cx="6077160" cy="5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AEGIS Training for Site Administra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Institute of Physics Belgrade, 10-11 Dec 200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elpdesk/GGUS (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reference point for tracking of all operational and user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ed problems are reported through the Helpdesk and assigned to the appropriate suppor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problems cannot be solved within the SEE-GRID community, they are propagated to other projects/initiatives/support systems (e.g. GGU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L: https://helpdesk.see-grid.eu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BmSAM/S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6" name="Rectangl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3960" y="1374840"/>
            <a:ext cx="4370400" cy="5035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39720" y="1590840"/>
            <a:ext cx="418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BmSAM History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9" name="Rectangle 3" descr=""/>
          <p:cNvPicPr/>
          <p:nvPr/>
        </p:nvPicPr>
        <p:blipFill>
          <a:blip r:embed="rId1"/>
          <a:stretch/>
        </p:blipFill>
        <p:spPr>
          <a:xfrm>
            <a:off x="482760" y="2050920"/>
            <a:ext cx="899136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BmS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al that provides access to the database of SAM tests res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tools for identification of operational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 be checked by each site admin on a daily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 be used to troubleshoot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provides SLA fig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L: https://c01.grid.etfbl.net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GStat (1)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3" name="Rectangle 3" descr=""/>
          <p:cNvPicPr/>
          <p:nvPr/>
        </p:nvPicPr>
        <p:blipFill>
          <a:blip r:embed="rId1"/>
          <a:stretch/>
        </p:blipFill>
        <p:spPr>
          <a:xfrm>
            <a:off x="954000" y="1281240"/>
            <a:ext cx="835344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GStat (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tool for monitoring of the information system of SEE-GRID 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useful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es problems with 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 be checked by each site admin on a daily basis and used for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ldapsearch commands can be found on GStat pag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L: http://goc.grid.sinica.edu.tw/gstat/seegrid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agios/CIC portal (1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Rectangle 3" descr=""/>
          <p:cNvPicPr/>
          <p:nvPr/>
        </p:nvPicPr>
        <p:blipFill>
          <a:blip r:embed="rId1"/>
          <a:stretch/>
        </p:blipFill>
        <p:spPr>
          <a:xfrm>
            <a:off x="1103400" y="1198440"/>
            <a:ext cx="739908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agios/CIC Portal (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9" name="Rectangle 3" descr=""/>
          <p:cNvPicPr/>
          <p:nvPr/>
        </p:nvPicPr>
        <p:blipFill>
          <a:blip r:embed="rId1"/>
          <a:stretch/>
        </p:blipFill>
        <p:spPr>
          <a:xfrm>
            <a:off x="1511280" y="1300320"/>
            <a:ext cx="74707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agios/CIC portal (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ion of alarms raised by various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m is to integrate all the tools and make the life of site admins and infrastructure managers eas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uture, automatic creation of Helpdesk tickets will be implemen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L: https://portal.ipp.acad.bg:7443/seegridnagios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ccounting portal (1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3" name="Rectangle 3" descr=""/>
          <p:cNvPicPr/>
          <p:nvPr/>
        </p:nvPicPr>
        <p:blipFill>
          <a:blip r:embed="rId1"/>
          <a:stretch/>
        </p:blipFill>
        <p:spPr>
          <a:xfrm>
            <a:off x="3552840" y="1204920"/>
            <a:ext cx="6208560" cy="51530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22400" y="1646280"/>
            <a:ext cx="3335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ccounting by site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ccounting by countries and institution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ccounting by application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-GRID operational and monitoring tools (and their relation to EGEE too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GSM/GOCD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desk/GG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mSAM/S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St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gios/CIC por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ounting por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wntime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grade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id-Operator-On-Duty (GOO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ce Level Agreement (S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GEE Accounting portal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6" name="Rectangle 3" descr=""/>
          <p:cNvPicPr/>
          <p:nvPr/>
        </p:nvPicPr>
        <p:blipFill>
          <a:blip r:embed="rId1"/>
          <a:stretch/>
        </p:blipFill>
        <p:spPr>
          <a:xfrm>
            <a:off x="1386000" y="1200240"/>
            <a:ext cx="74404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ccounting portal (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s the accounting data from all SEE-GRID and AEGIS sites through apel accounting publisher developed by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aggregated accounting data by site, country, institution, ap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site must publish the accounting data prope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L: https://gserv1.ipp.acad.bg:8443/Welcome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owntime procedur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42440" y="1333440"/>
            <a:ext cx="8991720" cy="515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wntimes must be announced well in advance (1 week is reasonable ti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always downtime due to hardware etc. failures that cannot be anticip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downtimes must be entered properly in HG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t way they are not be counted against the site’s 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ddition, all downtimes must be broadcasted by e-mail to the GIM, APP and proper VO mailing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wntime should not exceed 10% of the total time (monthly, quarterl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es, explanation must be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explanation is not accepted by the project management, SA1 claims will be reje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pgrade procedur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82760" y="1410840"/>
            <a:ext cx="8991360" cy="5054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upgrades/updates are announced over the GIM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roadcasts contain links to further instructions for upgrades for each Grid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te admins should carefully examine them before performing the updat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ddition, possible SEE-GRID-specific instructions are given in the e-m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specially important updates/changes, tickets are created for each 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ome upgrades/updates to be performed,  downtimes may be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 updates must be regularly installed, to minimize security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Grid-Operator-On-Duty (GOOD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82760" y="1360440"/>
            <a:ext cx="8991360" cy="5106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tating shifts on a weekly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ountry’s GIM is responsible to monitor sites during his/her shi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ckets are submitted to sites with problems, according to the status of sites in various monitoring tools (BBmSAM, GStat, Nagios, Accounting portal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lder tickets that are not resolved are escal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is given to sites that cannot resolve earlier identified operational probl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tickets are assigned to the appropriate suppor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ki documentation is updated, or new wiki pages created if necess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L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egee-see.org/index.php/SG_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egee-see.org/index.php/SG_Helpdesk_tic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sual problems and links to (possible) solu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15720" y="1192320"/>
            <a:ext cx="9453240" cy="5324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70000"/>
              </a:lnSpc>
              <a:spcBef>
                <a:spcPts val="300"/>
              </a:spcBef>
              <a:buSzPct val="123607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Verdana"/>
              </a:rPr>
              <a:t>BDII</a:t>
            </a: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siteBDII (GIIS) or top-level BDII is Unreachable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http://faq.twgrid.org/faq/index.php?action=artikel&amp;cat=14&amp;id=11&amp;artlang=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o info published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http://goc.grid.sinica.edu.tw/gocwiki/No_data_published_by_top_level_BDII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70000"/>
              </a:lnSpc>
              <a:spcBef>
                <a:spcPts val="300"/>
              </a:spcBef>
              <a:buSzPct val="123607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CA version test failed with error message: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This CA is an old one and time allowed to upgrade is over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http://grid-deployment.web.cern.ch/grid-deployment/lcg2CAlist.htm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70000"/>
              </a:lnSpc>
              <a:spcBef>
                <a:spcPts val="300"/>
              </a:spcBef>
              <a:buSzPct val="123607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Verdana"/>
              </a:rPr>
              <a:t>CE (Computing Element)</a:t>
            </a: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Job submission failed with error message: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Brokerhelper: Cannot plan. No compatible resources: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http://goc.grid.sinica.edu.tw/gocwiki/Brokerhelper%3A_Cannot_plan._No_compatible_resour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Job submission failed with error message: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Got a job held event, reason: Unspecified gridmanager error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http://goc.grid.sinica.edu.tw/gocwiki/Unspecified_gridmanager_err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Job submission failed with error message: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Cannot read JobWrapper output, both from Condor and from Maradona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http://goc.grid.sinica.edu.tw/gocwiki/Cannot_read_JobWrapper_output%2e%2e%2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Job submission failed with error message: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7 authentication failed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http://goc.grid.sinica.edu.tw/gocwiki/7_authentication_faile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Job submission failed with error message: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10 data transfer to the server failed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http://goc.grid.sinica.edu.tw/gocwiki/10_data_transfer_to_the_server_faile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4444 Waiting jobs in the GRIS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http://goc.grid.sinica.edu.tw/gocwiki/4444_Waiting_jobs_in_the_GRI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70000"/>
              </a:lnSpc>
              <a:spcBef>
                <a:spcPts val="300"/>
              </a:spcBef>
              <a:buSzPct val="123607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Verdana"/>
              </a:rPr>
              <a:t>SE (Storage Element)</a:t>
            </a: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File copy and registration failed with error message: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535 535-FTPD GSSAPI error: GSS Major Status: General failure</a:t>
            </a:r>
            <a:br>
              <a:rPr sz="1200"/>
            </a:br>
            <a:r>
              <a:rPr b="0" lang="en" sz="1200" spc="-1" strike="noStrike">
                <a:solidFill>
                  <a:srgbClr val="000000"/>
                </a:solidFill>
                <a:latin typeface="Verdana"/>
              </a:rPr>
              <a:t>http://goc.grid.sinica.edu.tw/gocwiki/535_535-FTPD_GSSAPI_error%3A_GSS_Major_Status%3A_General_failur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rvice Level Agreement (SLA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82760" y="148716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ld URL: http://wiki.egee-see.org/index.php/SG_S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nge to the current one is that the required availability is 80%, and that the availability is calculated on 3h basis, not on a daily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BmSAM portal provides SLA fig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es not fully conforming to the SLA will have reduced fu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es with the availability &lt;50% will be uncert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es fully conforming to the SLA will be put into seegrid_certified status and become visible to the whole SEE region (i.e. not only SEE-GRID, but also EGEE-SEE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rvice Level Agreement (SLA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44080" y="1487160"/>
            <a:ext cx="949500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EGIS01-PHY-SCL: egee_p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AEGIS02-RCUB and AEGIS04-KG: seegrid_certified - good work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EGIS03-ELEF-LEDA: seegrid_p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AEGIS05-ETFBG: experimental (uncertified) – problem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AEGIS sites must improve their availability figures, so that we provide better service to our u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perational &amp; monitoring tools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957240" y="1035000"/>
            <a:ext cx="8058240" cy="5497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24000" y="4595760"/>
            <a:ext cx="1110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15080" y="4064040"/>
            <a:ext cx="1100160" cy="48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HGSM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757760" y="1612800"/>
            <a:ext cx="1343160" cy="325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HELPDESK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30440" y="2585880"/>
            <a:ext cx="1113120" cy="325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BDII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16560" y="3529080"/>
            <a:ext cx="1112760" cy="325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R-GMA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90800" y="2662200"/>
            <a:ext cx="1112760" cy="25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SAM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143920" y="1244520"/>
            <a:ext cx="1330200" cy="614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GSTAT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(Taiwan)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754280" y="2076480"/>
            <a:ext cx="1112760" cy="325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VOMS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cxnSp>
        <p:nvCxnSpPr>
          <p:cNvPr id="530" name=""/>
          <p:cNvCxnSpPr>
            <a:stCxn id="523" idx="0"/>
            <a:endCxn id="528" idx="1"/>
          </p:cNvCxnSpPr>
          <p:nvPr/>
        </p:nvCxnSpPr>
        <p:spPr>
          <a:xfrm flipV="1" rot="16200000">
            <a:off x="6899040" y="2796480"/>
            <a:ext cx="2512080" cy="23040"/>
          </a:xfrm>
          <a:prstGeom prst="curvedConnector5">
            <a:avLst>
              <a:gd name="adj1" fmla="val 43930"/>
              <a:gd name="adj2" fmla="val 563492"/>
              <a:gd name="adj3" fmla="val 43930"/>
            </a:avLst>
          </a:prstGeom>
          <a:ln w="0">
            <a:noFill/>
          </a:ln>
        </p:spPr>
      </p:cxnSp>
      <p:cxnSp>
        <p:nvCxnSpPr>
          <p:cNvPr id="531" name=""/>
          <p:cNvCxnSpPr>
            <a:stCxn id="528" idx="3"/>
          </p:cNvCxnSpPr>
          <p:nvPr/>
        </p:nvCxnSpPr>
        <p:spPr>
          <a:xfrm>
            <a:off x="9474120" y="1552320"/>
            <a:ext cx="8640" cy="748440"/>
          </a:xfrm>
          <a:prstGeom prst="curvedConnector5">
            <a:avLst>
              <a:gd name="adj1" fmla="val 2978260"/>
              <a:gd name="adj2" fmla="val 50000"/>
              <a:gd name="adj3" fmla="val 2978260"/>
            </a:avLst>
          </a:prstGeom>
          <a:ln w="0">
            <a:noFill/>
          </a:ln>
        </p:spPr>
      </p:cxnSp>
      <p:cxnSp>
        <p:nvCxnSpPr>
          <p:cNvPr id="532" name=""/>
          <p:cNvCxnSpPr>
            <a:stCxn id="523" idx="0"/>
            <a:endCxn id="528" idx="1"/>
          </p:cNvCxnSpPr>
          <p:nvPr/>
        </p:nvCxnSpPr>
        <p:spPr>
          <a:xfrm flipV="1" rot="16200000">
            <a:off x="6899040" y="2796480"/>
            <a:ext cx="2512080" cy="23040"/>
          </a:xfrm>
          <a:prstGeom prst="curvedConnector5">
            <a:avLst>
              <a:gd name="adj1" fmla="val 30514"/>
              <a:gd name="adj2" fmla="val 563492"/>
              <a:gd name="adj3" fmla="val 30514"/>
            </a:avLst>
          </a:prstGeom>
          <a:ln w="633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23" idx="1"/>
            <a:endCxn id="526" idx="2"/>
          </p:cNvCxnSpPr>
          <p:nvPr/>
        </p:nvCxnSpPr>
        <p:spPr>
          <a:xfrm rot="10800000">
            <a:off x="5973120" y="3853800"/>
            <a:ext cx="1641960" cy="454680"/>
          </a:xfrm>
          <a:prstGeom prst="curvedConnector2">
            <a:avLst/>
          </a:prstGeom>
          <a:ln w="633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23" idx="1"/>
            <a:endCxn id="525" idx="2"/>
          </p:cNvCxnSpPr>
          <p:nvPr/>
        </p:nvCxnSpPr>
        <p:spPr>
          <a:xfrm rot="10800000">
            <a:off x="3987000" y="2910600"/>
            <a:ext cx="3628080" cy="1397880"/>
          </a:xfrm>
          <a:prstGeom prst="curvedConnector2">
            <a:avLst/>
          </a:prstGeom>
          <a:ln w="633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23" idx="1"/>
            <a:endCxn id="527" idx="1"/>
          </p:cNvCxnSpPr>
          <p:nvPr/>
        </p:nvCxnSpPr>
        <p:spPr>
          <a:xfrm rot="10800000">
            <a:off x="1990080" y="2790000"/>
            <a:ext cx="5625000" cy="1518480"/>
          </a:xfrm>
          <a:prstGeom prst="curvedConnector5">
            <a:avLst>
              <a:gd name="adj1" fmla="val 105805"/>
              <a:gd name="adj2" fmla="val 49988"/>
              <a:gd name="adj3" fmla="val 105805"/>
            </a:avLst>
          </a:prstGeom>
          <a:ln w="633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29" idx="0"/>
            <a:endCxn id="524" idx="0"/>
          </p:cNvCxnSpPr>
          <p:nvPr/>
        </p:nvCxnSpPr>
        <p:spPr>
          <a:xfrm flipH="1" flipV="1" rot="5400000">
            <a:off x="3638160" y="285480"/>
            <a:ext cx="464400" cy="3118320"/>
          </a:xfrm>
          <a:prstGeom prst="curvedConnector5">
            <a:avLst>
              <a:gd name="adj1" fmla="val 149262"/>
              <a:gd name="adj2" fmla="val 49994"/>
              <a:gd name="adj3" fmla="val 149262"/>
            </a:avLst>
          </a:prstGeom>
          <a:ln w="633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2119320" y="3214800"/>
            <a:ext cx="1112760" cy="25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BBmSAM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cxnSp>
        <p:nvCxnSpPr>
          <p:cNvPr id="538" name=""/>
          <p:cNvCxnSpPr>
            <a:stCxn id="523" idx="1"/>
            <a:endCxn id="537" idx="1"/>
          </p:cNvCxnSpPr>
          <p:nvPr/>
        </p:nvCxnSpPr>
        <p:spPr>
          <a:xfrm rot="10800000">
            <a:off x="2118600" y="3342600"/>
            <a:ext cx="5496480" cy="965880"/>
          </a:xfrm>
          <a:prstGeom prst="curvedConnector5">
            <a:avLst>
              <a:gd name="adj1" fmla="val 107303"/>
              <a:gd name="adj2" fmla="val 50000"/>
              <a:gd name="adj3" fmla="val 107303"/>
            </a:avLst>
          </a:prstGeom>
          <a:ln w="633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5280120" y="2674800"/>
            <a:ext cx="1342800" cy="325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Accounting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07200" y="3098880"/>
            <a:ext cx="1112760" cy="325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NAGIOS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GSM/GOCDB (1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2" name="Rectangle 3" descr=""/>
          <p:cNvPicPr/>
          <p:nvPr/>
        </p:nvPicPr>
        <p:blipFill>
          <a:blip r:embed="rId1"/>
          <a:stretch/>
        </p:blipFill>
        <p:spPr>
          <a:xfrm>
            <a:off x="482760" y="1717560"/>
            <a:ext cx="8991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GSM/GOCDB (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4" name="Rectangle 3" descr=""/>
          <p:cNvPicPr/>
          <p:nvPr/>
        </p:nvPicPr>
        <p:blipFill>
          <a:blip r:embed="rId1"/>
          <a:stretch/>
        </p:blipFill>
        <p:spPr>
          <a:xfrm>
            <a:off x="692280" y="1163520"/>
            <a:ext cx="89676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GSM/GOCDB (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ic database containing all relevant data about all SEE-GRID and AEGIS 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 kept synchronized with the real sit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sheets must be properly upd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e Inf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e N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wn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dumps – the easiest way to apply changes is to download XML dump of the data, edit it appropriately, and then upload the new XML file; this also allows keeping of back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GSM/GOCDB (4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ssential fields in HGS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IS U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: 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s: certif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: seegrid_production, seegrid_certified, egee_p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te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cts and administ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fields have to have correct values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L: https://hgsm.grid.org.tr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elpdesk/GGUS (1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0" name="Rectangle 3" descr=""/>
          <p:cNvPicPr/>
          <p:nvPr/>
        </p:nvPicPr>
        <p:blipFill>
          <a:blip r:embed="rId1"/>
          <a:stretch/>
        </p:blipFill>
        <p:spPr>
          <a:xfrm>
            <a:off x="1557360" y="1177920"/>
            <a:ext cx="754704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elpdesk/GGUS (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2" name="Rectangle 3" descr=""/>
          <p:cNvPicPr/>
          <p:nvPr/>
        </p:nvPicPr>
        <p:blipFill>
          <a:blip r:embed="rId1"/>
          <a:stretch/>
        </p:blipFill>
        <p:spPr>
          <a:xfrm>
            <a:off x="744480" y="1427040"/>
            <a:ext cx="78836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9:33:51Z</dcterms:created>
  <dc:creator>Antun Balaz</dc:creator>
  <dc:description/>
  <cp:keywords>SEE-GRID-SCI AEGIS SCL Training Site Administrator</cp:keywords>
  <dc:language>en-US</dc:language>
  <cp:lastModifiedBy>Antun Balaz</cp:lastModifiedBy>
  <dcterms:modified xsi:type="dcterms:W3CDTF">2008-12-10T09:33:42Z</dcterms:modified>
  <cp:revision>135</cp:revision>
  <dc:subject>AEGIS Training for Site Administrators, Institute of Physics Belgrade, 10-11 December 2008</dc:subject>
  <dc:title>Grid Operations Procedures</dc:title>
</cp:coreProperties>
</file>