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2284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2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93726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23"/>
          </p:nvPr>
        </p:nvSpPr>
        <p:spPr>
          <a:xfrm>
            <a:off x="3822480" y="9372600"/>
            <a:ext cx="2917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7AE82-6149-4579-BE33-7B704D7358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9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9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9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9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2496-3753-4164-9C4E-867FDC3C1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11FA-0116-4DFA-B498-12A2DC6506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174F0-B9C2-43DA-AF55-D0EA7857239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522F7F-8961-4DA3-8914-7711CF764C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CF8CF-5360-403B-8C52-6C469B8953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60661-32CA-49AE-BD4D-6D9EF19972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2CB70-FDFE-4B64-B1EA-9EEBBFCEA0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7AF85-AF6A-49A7-94E8-5E2B59B736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C7E27F-04CC-4BDD-A7D2-EA2EF811E5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2B3E5A-D756-409C-AAFE-C8B8F61FF70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65C9B-DB19-44E5-B23D-55F32E36FE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60FC-58F7-4A56-9B5D-A9EAA3AEF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5A91-A869-4C19-BFFC-DB281C105D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B44C1-0692-4C0E-816B-D00C29EA86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BF02D-43EE-453E-A5F6-7EF43F8F70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936B-17E8-4849-A7E8-44438E9CB8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F370-079E-424B-99C7-F7A878A8D0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C5E95-3596-438D-869D-4EF5EAB4C0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FF2E8-7A33-48E5-B91B-E04CA2D5A2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144B7-3CFB-428F-9AB5-CB6430B0AA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9E07-2C5A-4FCC-A14E-A8A342051A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2E5E0-31C5-4028-8C9F-8F1FB473D3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B3E1-B83F-4730-A736-E24811945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4143-503F-4885-9B6D-C3265922C8E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8FE2-D4D3-4D5D-B604-A0B621BEFF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8D1D8-6DA0-4904-B7BF-3CC4BCAF830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9334B-F8EA-4A90-9486-47545691AF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07574-F5A9-4B2D-9FD2-B16CA95F40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CAA1C-0547-42F3-8288-A76BACC288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F1D4C-F5E6-43CE-B7A6-23E59A20B80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0715C-3743-49AE-A657-D9AF8C0766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07D10-B460-4040-BC36-86A782CCB2E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53F3E-E4A7-4F51-AF5F-A2723101D21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D6920-277E-4971-A854-838D48B9B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1AB72-A294-4FE5-A575-4D5D93C2BC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0D0C3-5FC0-4A04-9982-AA844FB033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8B4E1-DC72-4529-8028-F4CCBDCBFD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5A0904-CDD4-4D3D-8000-E403B72ED0B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459A8D-696F-4C7A-AB1C-1F2545C6DE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25186F-25C3-4D55-9FC3-1067F119BB2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7469DA-FED3-4F2F-9446-8309CCD8BF3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1951D-9360-4948-A8C0-6A66D1FF26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A4B1EB-D8EE-4161-86A9-D4D3D34A42F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D8532-EF31-4383-8BDF-2BA657D67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F6509-70FD-4394-9351-EA3BECD7FFB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70ACF-76E0-4861-8F46-A22082E9A3B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0546A-71BD-4BF7-9340-F6E2B0A9EE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25EF2-287F-46FF-9B45-DCFA8134F50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62EA9-F988-460A-927D-927B7CF4DE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48F8-0507-41A6-850D-715C5EA17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B100A-D7A5-427B-8E8D-EA4338FB4E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FD03C-842B-4D4E-82BA-4E5D8974E5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2AC41-1754-43D9-8692-68A713BAFA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D785-253C-4214-B77A-5F7AA9FC32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788F8-E5AE-4E41-9193-88BD07D16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85C3-E8F7-42F2-9D9C-157F33667D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6768B-8997-4ECC-B3FC-8EA67D98ED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CDAF3-247C-418D-A3D8-F945002BE9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93787-A471-4EA2-81FF-778CE345A2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D708F-2BE5-4A92-8C99-505DC3DC06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4DFEF-5CAB-46B2-9102-350266E2F7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7ECBD-CDC1-42F6-8386-EF635144F1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0B39-31EC-4142-8AA4-101226124E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EAE1-2E1F-4F10-A3C1-83FAF6AF0F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BEE-39D4-4DA4-B08E-FB5C53E4AB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91A8-BC27-48F3-BD17-424044C26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6902-6CED-46C2-994E-55D1F3FF72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E8FB-8A32-4F6C-B0DD-6C1A236BA2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5AF-58DF-4621-9BB2-4E172FCA11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91A-2CD7-412F-B2EE-B741614A9D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4369-5017-4E9B-9DAA-E7F07271E7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AC8-2A37-4148-9113-4E36DDD32F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88BD-41F6-4916-BDEB-1179D20885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F7DD-96D0-48A7-80ED-B47D9B4CBA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60A3-EAFA-40CD-B51C-7D4A6B20A2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B1DB-2D67-4C4B-8C9C-FB08D8B88D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B3933-B18A-406A-AFE0-808552567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6063-012F-4F66-A460-9246B18E4D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16A0A-07F6-4E04-A624-08996E05255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6461E-459B-4518-B5DB-20CF6AF8AF3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DBD9F-841F-4D64-B446-5390D9B052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BDD92-CD91-4EBC-90DB-2EEEDC4FF5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39744-52E2-492C-A4D1-4B53E70E9D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41190-3F26-4DA0-A51E-36082E8E6D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641CC-FC9B-4847-B513-31C116D775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66841-B429-45AD-8177-FA94FA332B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95AD4-D4A9-4DB4-A7E8-E42DF312E8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311D8-FC22-49C4-8960-F3DCB16DF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FA5F-C593-415D-BC04-5A5DCED65F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56741-B2F8-4980-9B59-1DD7D08583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44EB3-3EE8-4931-A748-34A3DFADF9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0F59F-7168-4B9D-99B4-7011B9591D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14092-8DEC-473F-A962-5C7790530A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66593-864C-4413-9DD0-B7F1A63B69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2C543-5DCE-45B8-B958-AD52138651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7534D-13F0-449F-AB2B-7534DDE1BB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CA67F-5BD5-4AAE-A4C1-9E9423871A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91272-BF1F-47E6-971F-BC6BDFCB8A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4AB9C-F7C4-4594-A531-FFF24098A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EB53-04C2-49AF-BA90-BDE49153F8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FD87D-AFA7-4DC0-807F-AEC2128059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8C8A9-347D-4E05-A9E1-E50CF7B155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FFB47-2746-4936-A3A9-216C42EF5B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2ECD-24B5-43BF-B503-8F5B8CF4B42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FCFE-D710-416B-8E6C-34FE5998B44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5EBDD-A0AF-4672-9B66-C5486AD561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4042-EBDF-4CDC-BFAF-13F32DCC48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1D46-BED5-44A9-8DC2-BFB3D22D34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0A10-3A23-4D6B-9380-05C5538D8C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3887-8A4B-47AF-BA03-FF74AB649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B067-881F-4229-8676-97E0CE6EEC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1C12-E214-4375-A674-1B94148F39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8E5F-8A23-4621-8063-7F5460A1E0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D343-6328-41D0-8E7C-63C227569B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6122-0D69-40F7-A57E-CEFA82783B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4C51-0C25-4027-A0E3-4C6BD9AFA8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E12E1-AFD9-4047-9E2E-DCAB22745F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5AD54-5BC0-40E1-A8E7-71295C75B7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498BB-DCE0-4D2F-9520-32FB3E90D2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8B038-999B-435F-AC22-06565CB1FE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BE5A3-8D93-4AC6-A157-19CD61C27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D22A-EAF9-4F73-AD02-2B9CD25699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2948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FF98C-2AF5-4AB3-ABB5-951A6EEF3C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902E8-04CD-48D5-A72E-FE487A74411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143D1-286D-425D-86FE-845A5D0866F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BBB6A-6EB1-47FD-B50A-57CCEA990A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960" y="3808440"/>
            <a:ext cx="85852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0B762-277C-4701-9D9B-7CF7E0165E4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5160" y="97488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9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5160" y="3808440"/>
            <a:ext cx="418932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F9B62-2D19-4AD4-936C-EF2EA6980E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4864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51320" y="97488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96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4864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51320" y="3808440"/>
            <a:ext cx="2764080" cy="25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2B758-E5AD-4F13-89AE-D4C9041D7E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7BEAF-A2D4-4D4E-A393-87B9C549E1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3A30C-7984-4F05-9695-3C69E7CA10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8BCFF-8946-4A0A-B5C2-8E55FE8A3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3EB2F-351F-443E-A130-38211FD1432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80C13-9582-44A5-A297-C5805DA94071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46977-9006-4433-BEDE-C258C4B6267C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97758-9759-4A62-B4D5-B6AC5AEE465E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Apr. 25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0720" y="1065240"/>
            <a:ext cx="510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Grid Computing Hands On Training for Users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30FA5-1EE7-4B51-B535-01D5B872AB5C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BC766-55A3-44A9-A151-AE36C7FF5B78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5E7C1-8399-4576-AF3A-3A1EE8394AD0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C204C-6FEB-4CC2-821F-1A34D5592676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7A0FA-44FB-4FAB-868C-3905A97BCD87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7AB31-4016-4081-A240-72BBE6A1C909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960" y="97488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294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280" y="6559560"/>
            <a:ext cx="669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560" y="6562440"/>
            <a:ext cx="4651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30F09-A66C-43C9-9B1A-C46947B70553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057400" y="1828800"/>
            <a:ext cx="65181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DATA MANAGEMENT</a:t>
            </a:r>
            <a:endParaRPr b="0" lang="en-US" sz="32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Branimir Ackovic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acko@scl.rs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55680" y="1951200"/>
            <a:ext cx="6518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LFN, GUID, SURL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143000"/>
            <a:ext cx="82296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LFN – Logical File Nam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GUID - Grid Unique Identifier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SURL – Storage URL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87440" y="3095640"/>
            <a:ext cx="802008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54320" y="66600"/>
            <a:ext cx="67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5960" y="974880"/>
            <a:ext cx="8589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A8B30-3B86-40D2-B13F-DC736E7C089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157320"/>
            <a:ext cx="5486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lfc data management comands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143000"/>
            <a:ext cx="91440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chmod Change access mode of a LFC file/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chown Change owner and group of a LFC file/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delcomment Delete the comment associated with a file/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getacl Get file/directory access control lists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ln Make a symbolic link to a file/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ls List file/directory entries in a 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mkdir Create 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rename Rename a file/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rm Remove a file/directory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setacl Set file/directory access control lists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setcomment Add/replace a comment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entergrpmap Defines a new group entry in the Virtual ID table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enterusrmap Defines a new user entry in Virtual ID table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modifygrpmap Modifies a group entry corresponding to a given virtual gid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modifyusrmap Modifies a user entry corresponding to a given virtual uid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rmgrpmap Suppresses group entry corresponding to a given virtual gid or group</a:t>
            </a:r>
            <a:r>
              <a:rPr b="1" lang="sr-Latn-C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fc-rmusrmap Suppresses user entry corresponding to a given virtual uid or user name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2286000" y="158760"/>
            <a:ext cx="6858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lcg data management comands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" y="1143000"/>
            <a:ext cx="86868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cp Copies a Grid file to a local destination (download)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cr Copies a file to a SE and registers the file in the catalog (LFC or LRC) (upload)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del Deletes one file (either one replica or all replicas)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rep Copies a file from one SE to another SE and registers it in the catalog (LFC or</a:t>
            </a:r>
            <a:r>
              <a:rPr b="1" lang="sr-Latn-C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RC) (replicate)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gt Gets the TURL for a given SURL and transfer protocol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sd Sets file status to ”Done” for a given SURL in an SRM’s request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aa Adds an alias in the catalog (LFC or RMC) for a given GUID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ra Removes an alias in the catalog (LFC or RMC) for a given GUID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rf Registers in the the catalog (LFC or LRC/RMC), a file residing on an SE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uf Unregisters in the the catalog (LFC or LRC) a file residing on an SE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la Lists the aliases for a given LFN, GUID or SURL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lg Gets the GUID for a given LFN or SURL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cg-lr Lists the replicas for a given LFN, GUID or SURL.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Grid Computing Hands On Training for Users</cp:keywords>
  <dc:language>en-US</dc:language>
  <cp:lastModifiedBy>Dusan Vudragovic</cp:lastModifiedBy>
  <cp:lastPrinted>2009-01-23T08:59:10Z</cp:lastPrinted>
  <dcterms:modified xsi:type="dcterms:W3CDTF">2009-04-24T15:16:45Z</dcterms:modified>
  <cp:revision>35</cp:revision>
  <dc:subject/>
  <dc:title>Grid Computing Hands On Training for Users</dc:title>
</cp:coreProperties>
</file>