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907588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9856800" cy="67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032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2"/>
          </p:nvPr>
        </p:nvSpPr>
        <p:spPr>
          <a:xfrm>
            <a:off x="5584320" y="-360"/>
            <a:ext cx="427068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3107880" y="504720"/>
            <a:ext cx="3646440" cy="252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29520" cy="302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13"/>
          </p:nvPr>
        </p:nvSpPr>
        <p:spPr>
          <a:xfrm>
            <a:off x="0" y="6393960"/>
            <a:ext cx="427032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14"/>
          </p:nvPr>
        </p:nvSpPr>
        <p:spPr>
          <a:xfrm>
            <a:off x="5584320" y="6393960"/>
            <a:ext cx="427068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72F859-291B-4755-A370-0F7B624FD5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3108240" y="504720"/>
            <a:ext cx="3646440" cy="25243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2952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5584680" y="6394320"/>
            <a:ext cx="4270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B68512-AC79-46A7-B8A0-0218CF988A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AEGIS Training for Site Administrators, Institute of Physics Belgrade, December 10-11, 2008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‹#›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" name="Picture 10" descr="SEEGRIDSCI-logo-medium.jpg"/>
          <p:cNvPicPr/>
          <p:nvPr/>
        </p:nvPicPr>
        <p:blipFill>
          <a:blip r:embed="rId3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83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9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25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10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67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1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0"/>
            <a:ext cx="9906120" cy="847800"/>
          </a:xfrm>
          <a:prstGeom prst="rect">
            <a:avLst/>
          </a:prstGeom>
          <a:gradFill rotWithShape="0">
            <a:gsLst>
              <a:gs pos="0">
                <a:srgbClr val="38007f"/>
              </a:gs>
              <a:gs pos="100000">
                <a:srgbClr val="6600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Rectangle 24"/>
          <p:cNvSpPr/>
          <p:nvPr/>
        </p:nvSpPr>
        <p:spPr>
          <a:xfrm>
            <a:off x="3722040" y="290988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ww.see-grid-sci.eu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Rectangle 25"/>
          <p:cNvSpPr/>
          <p:nvPr/>
        </p:nvSpPr>
        <p:spPr>
          <a:xfrm>
            <a:off x="5538960" y="152280"/>
            <a:ext cx="36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E-GRID-SCI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Line 33"/>
          <p:cNvSpPr/>
          <p:nvPr/>
        </p:nvSpPr>
        <p:spPr>
          <a:xfrm flipV="1">
            <a:off x="0" y="882360"/>
            <a:ext cx="9906120" cy="111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Line 34"/>
          <p:cNvSpPr/>
          <p:nvPr/>
        </p:nvSpPr>
        <p:spPr>
          <a:xfrm flipV="1">
            <a:off x="0" y="6573960"/>
            <a:ext cx="990612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7" name="Picture 12" descr="SEEGRIDSCI-logo-medium.jpg"/>
          <p:cNvPicPr/>
          <p:nvPr/>
        </p:nvPicPr>
        <p:blipFill>
          <a:blip r:embed="rId2"/>
          <a:stretch/>
        </p:blipFill>
        <p:spPr>
          <a:xfrm>
            <a:off x="6443640" y="1787400"/>
            <a:ext cx="3255840" cy="216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-360" y="65786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EE-GRID-SCI initiative is co-funded by the European Commission under the FP7 Research Infrastructures contract no. 21133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58656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EGIS Training for Site Administrators, Institute of Physics Belgrade, December 10-11, 2008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fld id="{F8066E07-A7BF-4ACA-BE5E-20D5433FD5D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1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3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3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4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15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5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57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6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9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7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0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41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8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72520" y="1787400"/>
            <a:ext cx="614556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Verdana"/>
              </a:rPr>
              <a:t>&lt;Title&gt;</a:t>
            </a:r>
            <a:endParaRPr b="1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378000" y="5238720"/>
            <a:ext cx="60418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&lt;Name&gt;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&lt;Institution&gt;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Serbia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&lt;E-mail&gt;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0" y="65786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EE-GRID-SCI initiative is co-funded by the European Commission under the FP7 Research Infrastructures contract no. 211338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29760" y="3665160"/>
            <a:ext cx="6077160" cy="5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AEGIS Training for Site Administrat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482760" y="1665000"/>
            <a:ext cx="89913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9:33:51Z</dcterms:created>
  <dc:creator>Dusan Vudragovic</dc:creator>
  <dc:description/>
  <cp:keywords>SEE-GRID-SCI AEGIS SCL Training Site Administrator</cp:keywords>
  <dc:language>en-US</dc:language>
  <cp:lastModifiedBy>Dusan Vudragovic</cp:lastModifiedBy>
  <dcterms:modified xsi:type="dcterms:W3CDTF">2008-12-04T11:12:34Z</dcterms:modified>
  <cp:revision>132</cp:revision>
  <dc:subject>AEGIS Training for Site Administrators</dc:subject>
  <dc:title>&lt;Presentation Title&gt; &lt;Presentation Subtitle&gt;</dc:title>
</cp:coreProperties>
</file>