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11C6-B382-4A2F-944F-B4FFD785D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00" y="3809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D98A-4B1C-4396-8F62-DD275A6A6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6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A6F7-FB0E-4074-AC69-710827ECE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936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5312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560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936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5312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51A7-C3B1-4BDF-A2D4-2FBBF51FC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53960" y="-125640"/>
            <a:ext cx="673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7A94-F18B-41F6-B8A7-CB13CA9CE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46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5600" y="3809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46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4936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53120" y="974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4560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4936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53120" y="3809880"/>
            <a:ext cx="276516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440C-0094-4270-BC90-336AA01EB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8FF1-9887-467F-8E58-5B64AA097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BCC9-4719-4B41-8C41-C5D0678EB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253960" y="-125640"/>
            <a:ext cx="673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E24A-ACD0-4D97-ABE9-6C4DF07F0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942F-DB39-47F4-BE84-1DB1464BC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6600" y="3809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74A6-1201-4906-86DB-423D3FB33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6600" y="974880"/>
            <a:ext cx="41911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5600" y="3809880"/>
            <a:ext cx="858852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C2EE-3BAD-4113-A579-27FA9BB5B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image" Target="../media/image2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521200" y="6535440"/>
            <a:ext cx="46836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1B959-6698-448E-911E-B85B31D56BA5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1a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1" marL="741240" indent="-2840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val 7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55600" y="644400"/>
            <a:ext cx="3650760" cy="325080"/>
            <a:chOff x="255600" y="644400"/>
            <a:chExt cx="3650760" cy="325080"/>
          </a:xfrm>
        </p:grpSpPr>
        <p:sp>
          <p:nvSpPr>
            <p:cNvPr id="7" name="Rectangle 9"/>
            <p:cNvSpPr/>
            <p:nvPr/>
          </p:nvSpPr>
          <p:spPr>
            <a:xfrm>
              <a:off x="255600" y="644400"/>
              <a:ext cx="36496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entury Gothic"/>
                </a:rPr>
                <a:t>Enabling Grids for E-scien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55600" y="644400"/>
              <a:ext cx="36496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55600" y="968400"/>
              <a:ext cx="36496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55600" y="644400"/>
              <a:ext cx="1080" cy="32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3905280" y="644400"/>
              <a:ext cx="1080" cy="32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031688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" name="Picture 16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" name="Text Box 15"/>
          <p:cNvSpPr/>
          <p:nvPr/>
        </p:nvSpPr>
        <p:spPr>
          <a:xfrm>
            <a:off x="2133720" y="6486480"/>
            <a:ext cx="63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 Induction Grid training for users, Institute of Physics Belgrade, Serbia 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" name="Picture 26" descr="SCL6hor"/>
          <p:cNvPicPr/>
          <p:nvPr/>
        </p:nvPicPr>
        <p:blipFill>
          <a:blip r:embed="rId3"/>
          <a:stretch/>
        </p:blipFill>
        <p:spPr>
          <a:xfrm>
            <a:off x="76320" y="6019920"/>
            <a:ext cx="152388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5680" y="2722320"/>
            <a:ext cx="65167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7870680" y="58960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031688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0" y="60958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f1a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1" marL="741240" indent="-2840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752480" y="6486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 Induction Grid training for users, Institute of Physics Belgrade, Serbia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9" descr="EGEE_blue_web"/>
          <p:cNvPicPr/>
          <p:nvPr/>
        </p:nvPicPr>
        <p:blipFill>
          <a:blip r:embed="rId5"/>
          <a:stretch/>
        </p:blipFill>
        <p:spPr>
          <a:xfrm>
            <a:off x="4952880" y="3505320"/>
            <a:ext cx="1524240" cy="101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ite_side"/>
          <p:cNvPicPr/>
          <p:nvPr/>
        </p:nvPicPr>
        <p:blipFill>
          <a:blip r:embed="rId6"/>
          <a:stretch/>
        </p:blipFill>
        <p:spPr>
          <a:xfrm>
            <a:off x="6858000" y="3505320"/>
            <a:ext cx="1828800" cy="84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CGlogo-grey"/>
          <p:cNvPicPr/>
          <p:nvPr/>
        </p:nvPicPr>
        <p:blipFill>
          <a:blip r:embed="rId7"/>
          <a:stretch/>
        </p:blipFill>
        <p:spPr>
          <a:xfrm>
            <a:off x="746748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aegis"/>
          <p:cNvPicPr/>
          <p:nvPr/>
        </p:nvPicPr>
        <p:blipFill>
          <a:blip r:embed="rId8"/>
          <a:stretch/>
        </p:blipFill>
        <p:spPr>
          <a:xfrm>
            <a:off x="2209680" y="3657600"/>
            <a:ext cx="220032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SEEGRIDSCI.jpg"/>
          <p:cNvPicPr/>
          <p:nvPr/>
        </p:nvPicPr>
        <p:blipFill>
          <a:blip r:embed="rId9"/>
          <a:stretch/>
        </p:blipFill>
        <p:spPr>
          <a:xfrm>
            <a:off x="4495680" y="4527720"/>
            <a:ext cx="2362320" cy="156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SCL6hor"/>
          <p:cNvPicPr/>
          <p:nvPr/>
        </p:nvPicPr>
        <p:blipFill>
          <a:blip r:embed="rId10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152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Sep. 19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1"/>
          <a:stretch/>
        </p:blipFill>
        <p:spPr>
          <a:xfrm>
            <a:off x="6154560" y="5940360"/>
            <a:ext cx="121932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286000" y="1143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b519a"/>
                </a:solidFill>
                <a:latin typeface="Century Gothic"/>
              </a:rPr>
              <a:t>&lt;Title&gt;</a:t>
            </a:r>
            <a:endParaRPr b="1" lang="en-US" sz="3200" spc="-1" strike="noStrike">
              <a:solidFill>
                <a:srgbClr val="2b519a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2b519a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entury Gothic"/>
              </a:rPr>
              <a:t>&lt;Presenter&gt;</a:t>
            </a:r>
            <a:endParaRPr b="1" lang="en-US" sz="1600" spc="-1" strike="noStrike">
              <a:solidFill>
                <a:srgbClr val="2b519a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entury Gothic"/>
              </a:rPr>
              <a:t>&lt;E-mail&gt;</a:t>
            </a:r>
            <a:endParaRPr b="1" lang="en-US" sz="1600" spc="-1" strike="noStrike">
              <a:solidFill>
                <a:srgbClr val="2b519a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entury Gothic"/>
              </a:rPr>
              <a:t>Scientific Computing Laboratory</a:t>
            </a:r>
            <a:endParaRPr b="1" lang="en-US" sz="1600" spc="-1" strike="noStrike">
              <a:solidFill>
                <a:srgbClr val="2b519a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entury Gothic"/>
              </a:rPr>
              <a:t>Institute of Physics Belgrade, Serbia</a:t>
            </a:r>
            <a:endParaRPr b="1" lang="en-US" sz="16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53960" y="-125640"/>
            <a:ext cx="673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5600" y="974880"/>
            <a:ext cx="858852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1a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entury Gothic"/>
              </a:rPr>
              <a:t>_x0010_</a:t>
            </a:r>
            <a:endParaRPr b="1" lang="en-US" sz="2400" spc="-1" strike="noStrike">
              <a:solidFill>
                <a:srgbClr val="2b519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12:59Z</dcterms:created>
  <dc:creator>Dusan Vudragovic</dc:creator>
  <dc:description/>
  <cp:keywords>EGEE SEE-GRID-SCI AEGIS SCL IPB Grid Training</cp:keywords>
  <dc:language>en-US</dc:language>
  <cp:lastModifiedBy>Dusan Vudragovic</cp:lastModifiedBy>
  <dcterms:modified xsi:type="dcterms:W3CDTF">2008-09-17T19:33:21Z</dcterms:modified>
  <cp:revision>13</cp:revision>
  <dc:subject>EGEE Induction Grid training for users, September 19, 2008, Institute of Physics Belgrade, Serbia</dc:subject>
  <dc:title>EGEE Induction Grid training for users</dc:title>
</cp:coreProperties>
</file>