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907588" cy="6858000"/>
  <p:notesSz cx="9856788" cy="6732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0" y="0"/>
            <a:ext cx="9856800" cy="673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0"/>
            <a:ext cx="9856800" cy="673272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0"/>
            <a:ext cx="9856800" cy="673272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0"/>
            <a:ext cx="9856800" cy="673272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0"/>
            <a:ext cx="9856800" cy="673272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0"/>
            <a:ext cx="9856800" cy="673272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0"/>
            <a:ext cx="9856800" cy="673272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0"/>
            <a:ext cx="9856800" cy="673272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0" y="0"/>
            <a:ext cx="9856800" cy="673272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0" y="0"/>
            <a:ext cx="9856800" cy="673272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0"/>
            <a:ext cx="9856800" cy="673272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0"/>
            <a:ext cx="427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584680" y="0"/>
            <a:ext cx="4270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3107880" y="504720"/>
            <a:ext cx="3630600" cy="25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1312920" y="3198600"/>
            <a:ext cx="7213680" cy="30114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6272280"/>
            <a:ext cx="427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sldNum" idx="12"/>
          </p:nvPr>
        </p:nvSpPr>
        <p:spPr>
          <a:xfrm>
            <a:off x="5584680" y="6392520"/>
            <a:ext cx="4254480" cy="3207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ahoma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19FA99-7D05-4ED1-A7B1-AA15ED741B93}" type="slidenum">
              <a:rPr b="0" lang="en-GB" sz="1200" spc="-1" strike="noStrike">
                <a:solidFill>
                  <a:srgbClr val="000000"/>
                </a:solidFill>
                <a:latin typeface="Tahoma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3108240" y="504720"/>
            <a:ext cx="3646440" cy="25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body"/>
          </p:nvPr>
        </p:nvSpPr>
        <p:spPr>
          <a:xfrm>
            <a:off x="1312920" y="3198600"/>
            <a:ext cx="721512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584680" y="6394320"/>
            <a:ext cx="4270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C3AFDD-E819-4156-BFB9-EE7E8B950567}" type="slidenum">
              <a:rPr b="1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3108240" y="504720"/>
            <a:ext cx="3646440" cy="25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body"/>
          </p:nvPr>
        </p:nvSpPr>
        <p:spPr>
          <a:xfrm>
            <a:off x="1312920" y="3198600"/>
            <a:ext cx="721512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108240" y="504720"/>
            <a:ext cx="3646440" cy="25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1312920" y="3198600"/>
            <a:ext cx="721512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3108240" y="504720"/>
            <a:ext cx="3646440" cy="25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body"/>
          </p:nvPr>
        </p:nvSpPr>
        <p:spPr>
          <a:xfrm>
            <a:off x="1312920" y="3198600"/>
            <a:ext cx="721512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3108240" y="504720"/>
            <a:ext cx="3646440" cy="25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body"/>
          </p:nvPr>
        </p:nvSpPr>
        <p:spPr>
          <a:xfrm>
            <a:off x="1312920" y="3198600"/>
            <a:ext cx="721512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3108240" y="504720"/>
            <a:ext cx="3646440" cy="25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body"/>
          </p:nvPr>
        </p:nvSpPr>
        <p:spPr>
          <a:xfrm>
            <a:off x="1312920" y="3198600"/>
            <a:ext cx="721512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3108240" y="504720"/>
            <a:ext cx="3646440" cy="25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body"/>
          </p:nvPr>
        </p:nvSpPr>
        <p:spPr>
          <a:xfrm>
            <a:off x="1312920" y="3198600"/>
            <a:ext cx="721512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3108240" y="504720"/>
            <a:ext cx="3646440" cy="25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body"/>
          </p:nvPr>
        </p:nvSpPr>
        <p:spPr>
          <a:xfrm>
            <a:off x="1312920" y="3198600"/>
            <a:ext cx="721512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3108240" y="504720"/>
            <a:ext cx="3646440" cy="25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body"/>
          </p:nvPr>
        </p:nvSpPr>
        <p:spPr>
          <a:xfrm>
            <a:off x="1312920" y="3198600"/>
            <a:ext cx="721512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3108240" y="504720"/>
            <a:ext cx="3646440" cy="25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body"/>
          </p:nvPr>
        </p:nvSpPr>
        <p:spPr>
          <a:xfrm>
            <a:off x="1312920" y="3198600"/>
            <a:ext cx="721512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755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760" y="4123800"/>
            <a:ext cx="89755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7976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081760" y="1665000"/>
            <a:ext cx="437976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-360" y="-46440"/>
            <a:ext cx="849636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81760" y="1665000"/>
            <a:ext cx="437976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82760" y="41238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7976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081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81760" y="41238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81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82760" y="4123800"/>
            <a:ext cx="89755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755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2760" y="4123800"/>
            <a:ext cx="89755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081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82760" y="41238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5081760" y="41238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517200" y="16650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552000" y="16650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82760" y="41238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517200" y="41238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552000" y="41238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81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82760" y="41238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81760" y="41238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7552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7552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7976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81760" y="1665000"/>
            <a:ext cx="437976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-360" y="-46440"/>
            <a:ext cx="849636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081760" y="1665000"/>
            <a:ext cx="437976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82760" y="41238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7976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81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081760" y="41238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081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82760" y="4123800"/>
            <a:ext cx="89755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755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2760" y="4123800"/>
            <a:ext cx="89755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081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82760" y="41238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081760" y="41238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7200" y="16650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2000" y="16650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2760" y="41238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7200" y="41238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2000" y="41238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17200" y="16650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552000" y="16650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82760" y="41238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17200" y="41238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552000" y="41238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7552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7552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7976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081760" y="1665000"/>
            <a:ext cx="437976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-360" y="-46440"/>
            <a:ext cx="849636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081760" y="1665000"/>
            <a:ext cx="437976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82760" y="41238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7976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081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81760" y="41238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81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82760" y="4123800"/>
            <a:ext cx="89755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755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82760" y="4123800"/>
            <a:ext cx="89755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081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82760" y="41238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5081760" y="41238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517200" y="16650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552000" y="16650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82760" y="41238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517200" y="41238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552000" y="41238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7552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7552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7976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081760" y="1665000"/>
            <a:ext cx="437976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-360" y="-46440"/>
            <a:ext cx="849636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81760" y="1665000"/>
            <a:ext cx="437976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82760" y="41238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7552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7976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081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081760" y="41238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081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82760" y="4123800"/>
            <a:ext cx="89755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755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2760" y="4123800"/>
            <a:ext cx="89755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081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82760" y="41238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5081760" y="41238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517200" y="16650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552000" y="16650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82760" y="41238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517200" y="41238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552000" y="41238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7552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7976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81760" y="1665000"/>
            <a:ext cx="437976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-46440"/>
            <a:ext cx="849636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81760" y="1665000"/>
            <a:ext cx="437976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2760" y="41238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7552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7976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81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81760" y="41238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81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2760" y="4123800"/>
            <a:ext cx="89755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755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760" y="4123800"/>
            <a:ext cx="89755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81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760" y="41238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81760" y="41238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17200" y="16650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52000" y="16650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2760" y="41238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17200" y="41238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52000" y="41238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7552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7552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7976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81760" y="1665000"/>
            <a:ext cx="437976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7552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-360" y="-46440"/>
            <a:ext cx="849636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81760" y="1665000"/>
            <a:ext cx="437976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82760" y="41238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7976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81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81760" y="41238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81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2760" y="4123800"/>
            <a:ext cx="89755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755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2760" y="4123800"/>
            <a:ext cx="89755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81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82760" y="41238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81760" y="41238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7200" y="16650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552000" y="16650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2760" y="41238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7200" y="41238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552000" y="41238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7552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7552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7976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81760" y="1665000"/>
            <a:ext cx="437976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7976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1760" y="1665000"/>
            <a:ext cx="437976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-360" y="-46440"/>
            <a:ext cx="849636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81760" y="1665000"/>
            <a:ext cx="437976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82760" y="41238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7976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81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81760" y="41238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81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82760" y="4123800"/>
            <a:ext cx="89755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755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2760" y="4123800"/>
            <a:ext cx="89755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81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2760" y="41238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081760" y="41238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17200" y="16650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552000" y="16650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82760" y="41238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17200" y="41238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552000" y="41238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7552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7552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7976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081760" y="1665000"/>
            <a:ext cx="437976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-360" y="-46440"/>
            <a:ext cx="849636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81760" y="1665000"/>
            <a:ext cx="437976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82760" y="41238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7976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81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081760" y="41238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81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82760" y="4123800"/>
            <a:ext cx="89755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755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2760" y="4123800"/>
            <a:ext cx="89755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81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2760" y="41238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81760" y="41238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-360" y="-46440"/>
            <a:ext cx="849636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517200" y="16650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552000" y="16650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82760" y="41238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517200" y="41238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552000" y="41238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7552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7552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7976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81760" y="1665000"/>
            <a:ext cx="437976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-360" y="-46440"/>
            <a:ext cx="849636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81760" y="1665000"/>
            <a:ext cx="437976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82760" y="41238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7976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81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081760" y="41238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81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82760" y="4123800"/>
            <a:ext cx="89755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81760" y="1665000"/>
            <a:ext cx="437976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2760" y="41238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755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2760" y="4123800"/>
            <a:ext cx="89755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81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82760" y="41238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5081760" y="41238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517200" y="16650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552000" y="16650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2760" y="41238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517200" y="41238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552000" y="41238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7552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7552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7976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81760" y="1665000"/>
            <a:ext cx="437976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-360" y="-46440"/>
            <a:ext cx="849636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81760" y="1665000"/>
            <a:ext cx="437976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82760" y="41238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7976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81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81760" y="41238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7976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81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081760" y="41238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81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2760" y="4123800"/>
            <a:ext cx="89755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755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2760" y="4123800"/>
            <a:ext cx="89755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81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82760" y="41238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081760" y="41238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517200" y="16650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52000" y="16650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82760" y="41238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517200" y="41238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552000" y="41238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7552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7552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7976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81760" y="1665000"/>
            <a:ext cx="437976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81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2760" y="4123800"/>
            <a:ext cx="89755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-360" y="-46440"/>
            <a:ext cx="849636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081760" y="1665000"/>
            <a:ext cx="437976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82760" y="41238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7976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81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81760" y="41238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81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82760" y="4123800"/>
            <a:ext cx="89755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755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2760" y="4123800"/>
            <a:ext cx="89755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81760" y="16650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82760" y="41238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5081760" y="4123800"/>
            <a:ext cx="437976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517200" y="16650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552000" y="16650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82760" y="41238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517200" y="41238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552000" y="4123800"/>
            <a:ext cx="2889720" cy="224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7552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7552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7552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564240"/>
            <a:ext cx="9890280" cy="29232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AEGIS Training for Site Administrators, Institute of Physics Belgrade, December 10-11, 2008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‹#›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V="1">
            <a:off x="0" y="1117440"/>
            <a:ext cx="8489880" cy="432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73960"/>
            <a:ext cx="9906120" cy="1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 flipV="1">
            <a:off x="0" y="1117440"/>
            <a:ext cx="8489880" cy="432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6573960"/>
            <a:ext cx="9906120" cy="1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7552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ftr" idx="9"/>
          </p:nvPr>
        </p:nvSpPr>
        <p:spPr>
          <a:xfrm>
            <a:off x="-360" y="6564240"/>
            <a:ext cx="9890280" cy="29232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 flipV="1">
            <a:off x="0" y="1117440"/>
            <a:ext cx="8489880" cy="432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6573960"/>
            <a:ext cx="9906120" cy="1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7552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ftr" idx="10"/>
          </p:nvPr>
        </p:nvSpPr>
        <p:spPr>
          <a:xfrm>
            <a:off x="-360" y="6564240"/>
            <a:ext cx="9890280" cy="29232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 flipV="1">
            <a:off x="0" y="1117440"/>
            <a:ext cx="8489880" cy="432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6573960"/>
            <a:ext cx="9906120" cy="1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7552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ftr" idx="11"/>
          </p:nvPr>
        </p:nvSpPr>
        <p:spPr>
          <a:xfrm>
            <a:off x="-360" y="6564240"/>
            <a:ext cx="9890280" cy="29232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906120" cy="847800"/>
          </a:xfrm>
          <a:prstGeom prst="rect">
            <a:avLst/>
          </a:prstGeom>
          <a:gradFill rotWithShape="0">
            <a:gsLst>
              <a:gs pos="0">
                <a:srgbClr val="38007f"/>
              </a:gs>
              <a:gs pos="100000">
                <a:srgbClr val="6600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45200" y="2909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www.see-grid-sci.eu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38960" y="152280"/>
            <a:ext cx="362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EE-GRID-SCI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0" y="866520"/>
            <a:ext cx="9906120" cy="428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0" y="6558120"/>
            <a:ext cx="9906120" cy="331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443640" y="1787400"/>
            <a:ext cx="3255840" cy="2163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7552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2"/>
          </p:nvPr>
        </p:nvSpPr>
        <p:spPr>
          <a:xfrm>
            <a:off x="-360" y="6578640"/>
            <a:ext cx="9890280" cy="27792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The SEE-GRID-SCI initiative is co-funded by the European Commission under the FP7 Research Infrastructures contract no. 21133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0" y="1117440"/>
            <a:ext cx="8489880" cy="432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573960"/>
            <a:ext cx="9906120" cy="1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658656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AEGIS Training for Site Administrators, Institute of Physics Belgrade, December 10-11, 2008 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	</a:t>
            </a:r>
            <a:fld id="{35A2AAB1-34B8-4E5C-A183-DF6CEADC415F}" type="slidenum">
              <a:rPr b="1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7552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 flipV="1">
            <a:off x="0" y="1117440"/>
            <a:ext cx="8489880" cy="432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573960"/>
            <a:ext cx="9906120" cy="1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7552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3"/>
          </p:nvPr>
        </p:nvSpPr>
        <p:spPr>
          <a:xfrm>
            <a:off x="-360" y="6564240"/>
            <a:ext cx="9890280" cy="29232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 flipV="1">
            <a:off x="0" y="1117440"/>
            <a:ext cx="8489880" cy="432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6573960"/>
            <a:ext cx="9906120" cy="1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7552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4"/>
          </p:nvPr>
        </p:nvSpPr>
        <p:spPr>
          <a:xfrm>
            <a:off x="-360" y="6564240"/>
            <a:ext cx="9890280" cy="29232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 flipV="1">
            <a:off x="0" y="1117440"/>
            <a:ext cx="8489880" cy="432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6573960"/>
            <a:ext cx="9906120" cy="1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7552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5"/>
          </p:nvPr>
        </p:nvSpPr>
        <p:spPr>
          <a:xfrm>
            <a:off x="-360" y="6564240"/>
            <a:ext cx="9890280" cy="29232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 flipV="1">
            <a:off x="0" y="1117440"/>
            <a:ext cx="8489880" cy="432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6573960"/>
            <a:ext cx="9906120" cy="1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7552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ftr" idx="6"/>
          </p:nvPr>
        </p:nvSpPr>
        <p:spPr>
          <a:xfrm>
            <a:off x="-360" y="6564240"/>
            <a:ext cx="9890280" cy="29232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flipV="1">
            <a:off x="0" y="1117440"/>
            <a:ext cx="8489880" cy="432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6573960"/>
            <a:ext cx="9906120" cy="1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7552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ftr" idx="7"/>
          </p:nvPr>
        </p:nvSpPr>
        <p:spPr>
          <a:xfrm>
            <a:off x="-360" y="6564240"/>
            <a:ext cx="9890280" cy="29232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 flipV="1">
            <a:off x="0" y="1117440"/>
            <a:ext cx="8489880" cy="432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6573960"/>
            <a:ext cx="9906120" cy="1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-360" y="-46440"/>
            <a:ext cx="8496360" cy="119052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75520" cy="470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ftr" idx="8"/>
          </p:nvPr>
        </p:nvSpPr>
        <p:spPr>
          <a:xfrm>
            <a:off x="-360" y="6564240"/>
            <a:ext cx="9890280" cy="29232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twiki.cern.ch/twiki/bin/view/LCG/GenericInstallGuide310" TargetMode="External"/><Relationship Id="rId2" Type="http://schemas.openxmlformats.org/officeDocument/2006/relationships/hyperlink" Target="http://wiki.egee-see.org/index.php/SG_Accounting_Client_Installation" TargetMode="External"/><Relationship Id="rId3" Type="http://schemas.openxmlformats.org/officeDocument/2006/relationships/hyperlink" Target="http://wiki.egee-see.org/index.php/SG_RGMA_Installation_Guide" TargetMode="External"/><Relationship Id="rId4" Type="http://schemas.openxmlformats.org/officeDocument/2006/relationships/slideLayout" Target="../slideLayouts/slideLayout27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pm.scl.rs/yum.conf/" TargetMode="External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272880" y="1787400"/>
            <a:ext cx="614556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Verdana"/>
              </a:rPr>
              <a:t>MON Hands-on Session</a:t>
            </a:r>
            <a:endParaRPr b="1" lang="en-US" sz="2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78000" y="5130720"/>
            <a:ext cx="6041880" cy="10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Vladimir Slavnić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Institute of Physics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Belgrade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Serbia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slavnic@scl.rs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0" y="65786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SEE-GRID-SCI initiative is co-funded by the European Commission under the FP7 Research Infrastructures contract no. 211338</a:t>
            </a:r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30120" y="3665520"/>
            <a:ext cx="607716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AEGIS Training for Site Administrators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0" y="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82760" y="1665360"/>
            <a:ext cx="8991360" cy="47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10760" cy="11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Link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89920" cy="46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77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77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77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77880" indent="-677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s://twiki.cern.ch/twiki/bin/view/LCG/GenericInstallGuide31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77880" indent="-677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iki.egee-see.org/index.php/SG_Accounting_Client_Instal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77880" indent="-677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wiki.egee-see.org/index.php/SG_RGMA_Installation_Gui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82760" y="1665360"/>
            <a:ext cx="8991360" cy="47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-360" y="-275040"/>
            <a:ext cx="8510760" cy="21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MON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89920" cy="46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813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01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813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014480" indent="-1014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01448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813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GMA-based monitoring system collector serv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01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813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014480" indent="-1014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01448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813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lational Grid Monitoring Architecture - R-GM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01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813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014480" indent="-1014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01448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813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s  in conjunction with batch system (CE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82760" y="1665360"/>
            <a:ext cx="8991360" cy="47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-360" y="-272880"/>
            <a:ext cx="8510760" cy="164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Prerequisites-1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89920" cy="46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813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01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813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014480" indent="-1014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01448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813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ation of operating system (SL4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01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813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014480" indent="-1014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01448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813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TP installation and configu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01448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813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eck ntp.conf , ntp.drift, ntp.drift.TEMP in /et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1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813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014480" indent="-1014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01448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813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ing host Certificat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01448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813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stcert.pem, hostkey.pem in /etc/grid-security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0" y="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82760" y="1665360"/>
            <a:ext cx="8991360" cy="47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-360" y="271080"/>
            <a:ext cx="8510760" cy="11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Prerequisites-2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89920" cy="46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813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014480" indent="-1014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01448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813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ository configu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01448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813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t repos from local repository (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rpm.scl.rs/yum.conf/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01448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813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 for MON packag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101448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813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d /etc/yum.repos.d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101448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813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get http://rpm.scl.rs/yum.conf/scl-glite-MON.rep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1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813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014480" indent="-1014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01448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813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va instal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01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813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014480" indent="-1014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01448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813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 lcg-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82760" y="1665360"/>
            <a:ext cx="8991360" cy="47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-360" y="-275040"/>
            <a:ext cx="851076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Glite MON installation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8992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77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77880" indent="-677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ne yum command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77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um install glite-M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77880" indent="-677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t will install all necessary packag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ysql-serv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mc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0" y="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82760" y="1665360"/>
            <a:ext cx="8991360" cy="47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-360" y="271080"/>
            <a:ext cx="8510760" cy="11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YAIM node configuring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8992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77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77880" indent="-677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ome relevant entries from site-info.de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_HOST=mon.$MY_DOMA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G_HOST=gserv1.ipp.acad.bg (lcgic01.gridpp.rl.ac.uk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YSQL_PASSWORD=some_good_passwo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EL_DB_PASSWORD="APELDB_PWD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77880" indent="-677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ecute configuration with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77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77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/opt/glite/yaim/bin/yaim -c -s &lt;path to site-info.def&gt; -n glite-M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0" y="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82760" y="1665360"/>
            <a:ext cx="8991360" cy="47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10760" cy="11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Testing configured syste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89920" cy="46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77880" indent="-677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ecute server check script on MON n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/opt/glite/bin/rgma-server-che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77880" indent="-677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ry to connect to mysql base from 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ysql -u accounting -h MON.node -p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77880" indent="-677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ry to connect to the Server using the following address to your web browse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s://&lt;MON URL&gt;:8443/R-GMA/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77880" indent="-677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ry to manually publish data (use the scripts from crons) and observe lo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0" y="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82760" y="1665360"/>
            <a:ext cx="8991360" cy="47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10760" cy="11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Additional tool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89920" cy="46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G Accounting Client (1)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mits aggregated accounting information to gserv1.ipp.acad.b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 DATABASE tmp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ANT CREATE TEMPORARY TABLES, SELECT, INSERT, UPDATE, DELETE, DROP, ALTER ON tmp.* TO 'USERNAME'@'HOSTNAME'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ANT SELECT on accounting.* to 'tomcat4'@'MONBOXHOSTNAME' identified by 'STRONGPASSWORD'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 DATABASE tmp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ANT SELECT, INSERT, UPDATE, DELETE, DROP, ALTER, CREATE TEMPORARY TABLES ON tmp.* TO 'tomcat4'@'MONBOXHOSTNAME'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0" y="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82760" y="1665360"/>
            <a:ext cx="8991360" cy="47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10760" cy="11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Additional tool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89920" cy="46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G Accounting Client (2)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pi_publisher-1.0-RHEL4.noarch.rp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stalls on CE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counting_publisher-2.0-RHEL4.noarch.rp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stalls on MO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 – tomc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it jvr.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y to publish: ./jvr.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s://gserv1.ipp.acad.bg:8443/Welcome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usan Vudragovic</dc:creator>
  <dc:description/>
  <cp:keywords>SEE-GRID-SCI AEGIS SCL Training Site Administrator</cp:keywords>
  <dc:language>en-US</dc:language>
  <cp:lastModifiedBy>Nenad</cp:lastModifiedBy>
  <cp:revision>0</cp:revision>
  <dc:subject/>
  <dc:title>&lt;Presentation Title&gt; &lt;Presentation Subtitle&gt;</dc:title>
</cp:coreProperties>
</file>