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F9FCED-AE0D-4FF2-B618-9D170B8E1E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109656-2087-4B3A-A200-5153C7B8DD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7701F543-10BF-41EE-ADF9-7DC695085E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New AEGIS services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Dusan Vudragovic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nstitute of Physics 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dusan@scl.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ubversion &amp; ViewVC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VN is availabl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svn.scl.r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VC is availabl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viewvc.scl.rs/viewvc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Picture 3" descr="650px-Subversion_project_visualization.svg.png"/>
          <p:cNvPicPr/>
          <p:nvPr/>
        </p:nvPicPr>
        <p:blipFill>
          <a:blip r:embed="rId3"/>
          <a:stretch/>
        </p:blipFill>
        <p:spPr>
          <a:xfrm>
            <a:off x="830160" y="4429080"/>
            <a:ext cx="82551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ubversion from CL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ed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certificate .subversion/ser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project set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par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3"/>
          <p:cNvSpPr/>
          <p:nvPr/>
        </p:nvSpPr>
        <p:spPr>
          <a:xfrm>
            <a:off x="851040" y="23814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groups]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l = svn.scl.r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scl]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sl-client-cert-file=/home/dusan/.globus/usercert.p12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3371760" y="1708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rt SVN_EDITOR=vi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851040" y="40132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mkdir https://svn.scl.rs/scl/&lt;project&gt;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mkdir https://svn.scl.rs/scl/&lt;project&gt;/trunk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mkdir https://svn.scl.rs/scl/&lt;project&gt;/tag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mkdir https://svn.scl.rs/scl/&lt;project&gt;/branche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851040" y="5619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m ‘&lt;comment&gt;’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ubversion from CL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ing an existing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ing out a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iting and adding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a copy of the previous 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422280" y="1930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import &lt;path_to project&gt; https://svn.scl.rs/scl/&lt;project&gt;/trunk -m 'Initial import'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422280" y="2808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import checkout https://svn.scl.rs/scl/&lt;project&gt;/trunk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306520" y="33098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info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84200" y="4016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status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add &lt;filename&gt;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commit -m ’comment’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TextBox 9"/>
          <p:cNvSpPr/>
          <p:nvPr/>
        </p:nvSpPr>
        <p:spPr>
          <a:xfrm>
            <a:off x="504720" y="5256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checkout –r xyz https://svn.scl.rs/scl/&lt;project&gt;/trunk &lt;destination_folder&gt;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ubversion from CL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3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t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a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bra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863640" y="1944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copy https://svn.scl.rs/scl/&lt;project&gt;/trunk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svn.scl.rs/scl/&lt;project&gt;/tags/&lt;project&gt;-v1.0.0.-1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863640" y="323064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rm &lt;filename_or_dirname&gt;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863640" y="4027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rename &lt;source&gt; &lt;destination&gt;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63640" y="4844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vn copy https://svn.scl.rs/scl/&lt;project&gt;/trunk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svn.scl.rs/scl/&lt;project&gt;/branches/&lt;project&gt;-v1.0.0.-1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ubversion from Eclips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2760" y="123624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ubclipse.tigris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Picture 3" descr="fig01.jpg"/>
          <p:cNvPicPr/>
          <p:nvPr/>
        </p:nvPicPr>
        <p:blipFill>
          <a:blip r:embed="rId2"/>
          <a:stretch/>
        </p:blipFill>
        <p:spPr>
          <a:xfrm>
            <a:off x="33336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fig02.jpg"/>
          <p:cNvPicPr/>
          <p:nvPr/>
        </p:nvPicPr>
        <p:blipFill>
          <a:blip r:embed="rId3"/>
          <a:stretch/>
        </p:blipFill>
        <p:spPr>
          <a:xfrm>
            <a:off x="1781280" y="283356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fig03.jpg"/>
          <p:cNvPicPr/>
          <p:nvPr/>
        </p:nvPicPr>
        <p:blipFill>
          <a:blip r:embed="rId4"/>
          <a:stretch/>
        </p:blipFill>
        <p:spPr>
          <a:xfrm>
            <a:off x="1704960" y="4205160"/>
            <a:ext cx="3394080" cy="1600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fig07.jpg"/>
          <p:cNvPicPr/>
          <p:nvPr/>
        </p:nvPicPr>
        <p:blipFill>
          <a:blip r:embed="rId5"/>
          <a:stretch/>
        </p:blipFill>
        <p:spPr>
          <a:xfrm>
            <a:off x="5113440" y="1843200"/>
            <a:ext cx="43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UM/APT Reposito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UM/APT repository is availabl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pm.scl.r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YUM configuration files are availabl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pm.scl.rs/yum.conf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APT configuration files are available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pm.scl.rs/apt.lis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YUM/APT Reposito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2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rrors (synchronization 6 times/d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st version of Scientific Linux 3 and Scientific Linux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ite-3.1 reposi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Package 1.7 and jPackage 5 reposi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CG-CAs repos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warf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2760" y="1284120"/>
            <a:ext cx="8991360" cy="510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work for DN based RPMs uploading and the creation of APT and YUM reposit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dwarf.scl.r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 is developed as PHP script with some JavaScript functions, and MySQL is used for database back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warf provides following pos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of repository structure followed by description of each part of the reposito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new user's DNs and defining parts of the repository that will be accessible by each D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Ms up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iew of repository struc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4"/>
          <a:stretch/>
        </p:blipFill>
        <p:spPr>
          <a:xfrm>
            <a:off x="6070680" y="4967280"/>
            <a:ext cx="3835440" cy="762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"/>
          <p:cNvPicPr/>
          <p:nvPr/>
        </p:nvPicPr>
        <p:blipFill>
          <a:blip r:embed="rId5"/>
          <a:stretch/>
        </p:blipFill>
        <p:spPr>
          <a:xfrm>
            <a:off x="6027840" y="5740560"/>
            <a:ext cx="3809880" cy="761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6"/>
          <a:stretch/>
        </p:blipFill>
        <p:spPr>
          <a:xfrm>
            <a:off x="4863960" y="5181480"/>
            <a:ext cx="1143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2:53:19Z</dcterms:created>
  <dc:creator>Dusan Vudragovic</dc:creator>
  <dc:description/>
  <cp:keywords>SEE-GRID-SCI AEGIS SCL Training Site Administrator</cp:keywords>
  <dc:language>en-US</dc:language>
  <cp:lastModifiedBy>Dusan Vudragovic</cp:lastModifiedBy>
  <dcterms:modified xsi:type="dcterms:W3CDTF">2008-12-09T23:26:36Z</dcterms:modified>
  <cp:revision>143</cp:revision>
  <dc:subject>AEGIS Training for Site Administrators</dc:subject>
  <dc:title>&lt;Presentation Title&gt; &lt;Presentation Subtitle&gt;</dc:title>
</cp:coreProperties>
</file>