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04760" y="914400"/>
            <a:ext cx="7086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04760" y="3780360"/>
            <a:ext cx="7086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04760" y="91440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36080" y="91440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04760" y="378036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536080" y="378036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04760" y="914400"/>
            <a:ext cx="2281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00920" y="914400"/>
            <a:ext cx="2281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97080" y="914400"/>
            <a:ext cx="2281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04760" y="3780360"/>
            <a:ext cx="2281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00920" y="3780360"/>
            <a:ext cx="2281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97080" y="3780360"/>
            <a:ext cx="2281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904760" y="914400"/>
            <a:ext cx="7086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04760" y="914400"/>
            <a:ext cx="7086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4760" y="914400"/>
            <a:ext cx="3458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36080" y="914400"/>
            <a:ext cx="3458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904760" y="152280"/>
            <a:ext cx="7086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04760" y="91440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536080" y="914400"/>
            <a:ext cx="3458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904760" y="378036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04760" y="914400"/>
            <a:ext cx="7086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04760" y="914400"/>
            <a:ext cx="3458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536080" y="91440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536080" y="378036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04760" y="91440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536080" y="91440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904760" y="3780360"/>
            <a:ext cx="7086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04760" y="914400"/>
            <a:ext cx="7086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904760" y="3780360"/>
            <a:ext cx="7086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4760" y="91440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536080" y="91440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904760" y="378036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536080" y="378036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904760" y="914400"/>
            <a:ext cx="2281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300920" y="914400"/>
            <a:ext cx="2281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697080" y="914400"/>
            <a:ext cx="2281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904760" y="3780360"/>
            <a:ext cx="2281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300920" y="3780360"/>
            <a:ext cx="2281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697080" y="3780360"/>
            <a:ext cx="2281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904760" y="914400"/>
            <a:ext cx="7086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04760" y="914400"/>
            <a:ext cx="7086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04760" y="914400"/>
            <a:ext cx="3458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536080" y="914400"/>
            <a:ext cx="3458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4760" y="914400"/>
            <a:ext cx="7086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904760" y="152280"/>
            <a:ext cx="7086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04760" y="91440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536080" y="914400"/>
            <a:ext cx="3458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904760" y="378036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04760" y="914400"/>
            <a:ext cx="3458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536080" y="91440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536080" y="378036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04760" y="91440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536080" y="91440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904760" y="3780360"/>
            <a:ext cx="7086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04760" y="914400"/>
            <a:ext cx="7086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904760" y="3780360"/>
            <a:ext cx="7086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04760" y="91440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536080" y="91440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04760" y="378036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536080" y="378036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04760" y="914400"/>
            <a:ext cx="2281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300920" y="914400"/>
            <a:ext cx="2281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697080" y="914400"/>
            <a:ext cx="2281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904760" y="3780360"/>
            <a:ext cx="2281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4300920" y="3780360"/>
            <a:ext cx="2281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697080" y="3780360"/>
            <a:ext cx="2281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04760" y="914400"/>
            <a:ext cx="3458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536080" y="914400"/>
            <a:ext cx="3458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04760" y="152280"/>
            <a:ext cx="7086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04760" y="91440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36080" y="914400"/>
            <a:ext cx="3458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04760" y="378036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04760" y="914400"/>
            <a:ext cx="3458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536080" y="91440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36080" y="378036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04760" y="91440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36080" y="91440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04760" y="3780360"/>
            <a:ext cx="7086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914400"/>
            <a:ext cx="7086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  <a:p>
            <a:pPr lvl="2" marL="1293840" indent="-40320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  <a:p>
            <a:pPr lvl="3" marL="1681200" indent="-385920">
              <a:spcBef>
                <a:spcPts val="700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  <a:p>
            <a:pPr lvl="4" marL="2070000" indent="-38736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904760" y="6552720"/>
            <a:ext cx="7086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Verdana"/>
              </a:rPr>
              <a:t>AEGIS 2008 Annual Assemb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5"/>
          <p:cNvSpPr/>
          <p:nvPr/>
        </p:nvSpPr>
        <p:spPr>
          <a:xfrm>
            <a:off x="0" y="0"/>
            <a:ext cx="18288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BankGothic Md BT"/>
            </a:endParaRPr>
          </a:p>
        </p:txBody>
      </p:sp>
      <p:pic>
        <p:nvPicPr>
          <p:cNvPr id="4" name="Picture 16" descr="Medusa02"/>
          <p:cNvPicPr/>
          <p:nvPr/>
        </p:nvPicPr>
        <p:blipFill>
          <a:blip r:embed="rId2"/>
          <a:stretch/>
        </p:blipFill>
        <p:spPr>
          <a:xfrm>
            <a:off x="76320" y="304920"/>
            <a:ext cx="1676160" cy="1562040"/>
          </a:xfrm>
          <a:prstGeom prst="rect">
            <a:avLst/>
          </a:prstGeom>
          <a:ln w="0">
            <a:noFill/>
          </a:ln>
        </p:spPr>
      </p:pic>
      <p:sp>
        <p:nvSpPr>
          <p:cNvPr id="5" name="Text Box 17"/>
          <p:cNvSpPr/>
          <p:nvPr/>
        </p:nvSpPr>
        <p:spPr>
          <a:xfrm>
            <a:off x="228600" y="19810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Verdana"/>
                <a:ea typeface="Verdana"/>
              </a:rPr>
              <a:t>A E G I S</a:t>
            </a:r>
            <a:endParaRPr b="0" lang="en-US" sz="1600" spc="-1" strike="noStrike">
              <a:solidFill>
                <a:srgbClr val="292929"/>
              </a:solidFill>
              <a:latin typeface="BankGothic Md BT"/>
            </a:endParaRPr>
          </a:p>
        </p:txBody>
      </p:sp>
      <p:sp>
        <p:nvSpPr>
          <p:cNvPr id="6" name="Text Box 18"/>
          <p:cNvSpPr/>
          <p:nvPr/>
        </p:nvSpPr>
        <p:spPr>
          <a:xfrm>
            <a:off x="0" y="65530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Verdana"/>
              </a:rPr>
              <a:t>11 December 2008</a:t>
            </a:r>
            <a:endParaRPr b="0" lang="en-US" sz="1200" spc="-1" strike="noStrike">
              <a:solidFill>
                <a:srgbClr val="292929"/>
              </a:solidFill>
              <a:latin typeface="BankGothic M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5"/>
          <p:cNvSpPr/>
          <p:nvPr/>
        </p:nvSpPr>
        <p:spPr>
          <a:xfrm>
            <a:off x="0" y="0"/>
            <a:ext cx="18288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BankGothic Md BT"/>
            </a:endParaRPr>
          </a:p>
        </p:txBody>
      </p:sp>
      <p:pic>
        <p:nvPicPr>
          <p:cNvPr id="44" name="Picture 21" descr="aegis"/>
          <p:cNvPicPr/>
          <p:nvPr/>
        </p:nvPicPr>
        <p:blipFill>
          <a:blip r:embed="rId2"/>
          <a:stretch/>
        </p:blipFill>
        <p:spPr>
          <a:xfrm>
            <a:off x="2403360" y="3581280"/>
            <a:ext cx="3006720" cy="31244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25"/>
          <p:cNvSpPr/>
          <p:nvPr/>
        </p:nvSpPr>
        <p:spPr>
          <a:xfrm>
            <a:off x="1828800" y="0"/>
            <a:ext cx="73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Verdana"/>
                <a:ea typeface="Verdana"/>
              </a:rPr>
              <a:t>AEGIS 2008 Annual Assembly</a:t>
            </a:r>
            <a:endParaRPr b="0" lang="en-US" sz="1600" spc="-1" strike="noStrike">
              <a:solidFill>
                <a:srgbClr val="292929"/>
              </a:solidFill>
              <a:latin typeface="BankGothic Md BT"/>
            </a:endParaRPr>
          </a:p>
        </p:txBody>
      </p:sp>
      <p:pic>
        <p:nvPicPr>
          <p:cNvPr id="46" name="Picture 27" descr="EGEE_blue_web"/>
          <p:cNvPicPr/>
          <p:nvPr/>
        </p:nvPicPr>
        <p:blipFill>
          <a:blip r:embed="rId3"/>
          <a:stretch/>
        </p:blipFill>
        <p:spPr>
          <a:xfrm>
            <a:off x="6524640" y="3657600"/>
            <a:ext cx="1828800" cy="1216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SEEGRIDSCI-logo-medium.jpg"/>
          <p:cNvPicPr/>
          <p:nvPr/>
        </p:nvPicPr>
        <p:blipFill>
          <a:blip r:embed="rId4"/>
          <a:stretch/>
        </p:blipFill>
        <p:spPr>
          <a:xfrm>
            <a:off x="6087960" y="4876920"/>
            <a:ext cx="2751120" cy="18288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8"/>
          <p:cNvSpPr/>
          <p:nvPr/>
        </p:nvSpPr>
        <p:spPr>
          <a:xfrm>
            <a:off x="0" y="65530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Verdana"/>
              </a:rPr>
              <a:t>11 December 2008</a:t>
            </a:r>
            <a:endParaRPr b="0" lang="en-US" sz="1200" spc="-1" strike="noStrike">
              <a:solidFill>
                <a:srgbClr val="292929"/>
              </a:solidFill>
              <a:latin typeface="BankGothic Md BT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904760" y="914400"/>
            <a:ext cx="7086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  <a:p>
            <a:pPr lvl="2" marL="1293840" indent="-40320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  <a:p>
            <a:pPr lvl="3" marL="1681200" indent="-385920">
              <a:spcBef>
                <a:spcPts val="700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  <a:p>
            <a:pPr lvl="4" marL="2070000" indent="-38736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5"/>
          <p:cNvSpPr/>
          <p:nvPr/>
        </p:nvSpPr>
        <p:spPr>
          <a:xfrm>
            <a:off x="0" y="0"/>
            <a:ext cx="18288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BankGothic Md BT"/>
            </a:endParaRPr>
          </a:p>
        </p:txBody>
      </p:sp>
      <p:pic>
        <p:nvPicPr>
          <p:cNvPr id="88" name="Picture 16" descr="Medusa02"/>
          <p:cNvPicPr/>
          <p:nvPr/>
        </p:nvPicPr>
        <p:blipFill>
          <a:blip r:embed="rId2"/>
          <a:stretch/>
        </p:blipFill>
        <p:spPr>
          <a:xfrm>
            <a:off x="76320" y="304920"/>
            <a:ext cx="1676160" cy="15620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7"/>
          <p:cNvSpPr/>
          <p:nvPr/>
        </p:nvSpPr>
        <p:spPr>
          <a:xfrm>
            <a:off x="228600" y="19810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Verdana"/>
                <a:ea typeface="Verdana"/>
              </a:rPr>
              <a:t>A E G I S</a:t>
            </a:r>
            <a:endParaRPr b="0" lang="en-US" sz="1600" spc="-1" strike="noStrike">
              <a:solidFill>
                <a:srgbClr val="292929"/>
              </a:solidFill>
              <a:latin typeface="BankGothic Md BT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0" y="65530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Verdana"/>
              </a:rPr>
              <a:t>11 December 2008</a:t>
            </a:r>
            <a:endParaRPr b="0" lang="en-US" sz="1200" spc="-1" strike="noStrike">
              <a:solidFill>
                <a:srgbClr val="292929"/>
              </a:solidFill>
              <a:latin typeface="BankGothic Md B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904760" y="914400"/>
            <a:ext cx="7086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  <a:p>
            <a:pPr lvl="2" marL="1293840" indent="-40320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  <a:p>
            <a:pPr lvl="3" marL="1681200" indent="-385920">
              <a:spcBef>
                <a:spcPts val="700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  <a:p>
            <a:pPr lvl="4" marL="2070000" indent="-38736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2"/>
          </p:nvPr>
        </p:nvSpPr>
        <p:spPr>
          <a:xfrm>
            <a:off x="1904760" y="6552720"/>
            <a:ext cx="7086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292929"/>
                </a:solidFill>
                <a:latin typeface="Verdana"/>
                <a:ea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92929"/>
                </a:solidFill>
                <a:latin typeface="Verdana"/>
                <a:ea typeface="Verdana"/>
              </a:rPr>
              <a:t>AEGIS 2008 Annual Assemb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8"/>
          <p:cNvSpPr/>
          <p:nvPr/>
        </p:nvSpPr>
        <p:spPr>
          <a:xfrm>
            <a:off x="1981080" y="762120"/>
            <a:ext cx="6934320" cy="21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Verdana"/>
                <a:ea typeface="Verdana"/>
              </a:rPr>
              <a:t>&lt;Title&gt;</a:t>
            </a:r>
            <a:endParaRPr b="0" lang="en-US" sz="2400" spc="-1" strike="noStrike">
              <a:solidFill>
                <a:srgbClr val="292929"/>
              </a:solidFill>
              <a:latin typeface="BankGothic Md BT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92929"/>
              </a:solidFill>
              <a:latin typeface="BankGothic Md B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Verdana"/>
                <a:ea typeface="Verdana"/>
              </a:rPr>
              <a:t>&lt;Name&gt;</a:t>
            </a:r>
            <a:endParaRPr b="0" lang="en-US" sz="1600" spc="-1" strike="noStrike">
              <a:solidFill>
                <a:srgbClr val="292929"/>
              </a:solidFill>
              <a:latin typeface="BankGothic Md B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292929"/>
                </a:solidFill>
                <a:latin typeface="Verdana"/>
                <a:ea typeface="Verdana"/>
              </a:rPr>
              <a:t>&lt;Institution&gt;</a:t>
            </a:r>
            <a:endParaRPr b="0" lang="en-US" sz="1600" spc="-1" strike="noStrike">
              <a:solidFill>
                <a:srgbClr val="292929"/>
              </a:solidFill>
              <a:latin typeface="BankGothic Md B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292929"/>
                </a:solidFill>
                <a:latin typeface="Verdana"/>
                <a:ea typeface="Verdana"/>
              </a:rPr>
              <a:t>Serbia</a:t>
            </a:r>
            <a:endParaRPr b="0" lang="en-US" sz="1600" spc="-1" strike="noStrike">
              <a:solidFill>
                <a:srgbClr val="292929"/>
              </a:solidFill>
              <a:latin typeface="BankGothic Md B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292929"/>
                </a:solidFill>
                <a:latin typeface="Verdana"/>
                <a:ea typeface="Verdana"/>
              </a:rPr>
              <a:t>&lt;E-mail&gt;</a:t>
            </a:r>
            <a:endParaRPr b="0" lang="en-US" sz="1600" spc="-1" strike="noStrike">
              <a:solidFill>
                <a:srgbClr val="292929"/>
              </a:solidFill>
              <a:latin typeface="BankGothic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904760" y="914400"/>
            <a:ext cx="7086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Verdana"/>
            </a:endParaRPr>
          </a:p>
        </p:txBody>
      </p:sp>
      <p:sp>
        <p:nvSpPr>
          <p:cNvPr id="133" name="Footer Placeholder 3"/>
          <p:cNvSpPr/>
          <p:nvPr/>
        </p:nvSpPr>
        <p:spPr>
          <a:xfrm>
            <a:off x="1905120" y="6553080"/>
            <a:ext cx="708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92929"/>
                </a:solidFill>
                <a:latin typeface="Verdana"/>
                <a:ea typeface="Verdana"/>
              </a:rPr>
              <a:t>AEGIS 2008 Annual Assembly</a:t>
            </a:r>
            <a:endParaRPr b="0" lang="en-US" sz="1000" spc="-1" strike="noStrike">
              <a:solidFill>
                <a:srgbClr val="292929"/>
              </a:solidFill>
              <a:latin typeface="BankGothic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23:01:23Z</dcterms:created>
  <dc:creator>Dusan Vudragovic</dc:creator>
  <dc:description/>
  <cp:keywords/>
  <dc:language>en-US</dc:language>
  <cp:lastModifiedBy>Dusan Vudragovic</cp:lastModifiedBy>
  <dcterms:modified xsi:type="dcterms:W3CDTF">2008-12-09T10:02:24Z</dcterms:modified>
  <cp:revision>79</cp:revision>
  <dc:subject>AEGIS 2008 Annual Assembly, Belgrade, 11 December 2008</dc:subject>
  <dc:title>Slide 1</dc:title>
</cp:coreProperties>
</file>