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54693-916C-4488-AA9A-3AF2F0BF4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8E4AD-5142-4855-A631-E83E631F36A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E14205-5679-41B0-8C66-EC037B73A61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CFF19D-80FB-4440-B8DC-F02CCE8093E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FB0BFC-4DCA-4BD3-B0E6-F1EA2A7BF4B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1248D9-5002-4788-896B-CAA52B1D877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AD8B4A-D3A5-417E-AA49-24F13090B5A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AD1989-0465-4F99-8015-23BE43FDA7F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67E4CD-DFAB-4733-A691-F8DFDF9BD72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F88440-3633-43E4-A87C-6F9C94981F6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EEC536-5727-4765-82DF-ACDC16ABEDD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CCA83-44AF-4558-9388-0F8F738AD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B18E-029E-4DF0-8BB3-CED18388ACF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E26C6-AF4C-48BC-B419-D6EAD166A30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DDF86-616C-4E79-B20D-2EA4AA6AF02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18F3F-C16B-4166-9927-FE10816FC37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CC31F-4F75-42C8-8506-F16CA6CE1A5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2F8E3-4201-4DF4-A912-07AD05AF271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17A2E-7713-422A-98FA-6E103FDED22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F0E08-E4E9-4A08-B258-57C38018F73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763D9-5305-45D3-9AD4-2967CEC2090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AEA64-8C94-4C55-9671-2D7D121C1E1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10BEE-2949-4D11-BD5B-B68F5B640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6ED5E-3D29-4B2B-8810-51EA6BF1C5B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6C49E-4531-4484-B69F-06CCF21E71E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7CF38-51B3-44B2-AFEA-56F45A10DF8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8B04D3-10EF-4A94-8052-2FE01201ACB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BDABCA-BEAE-4722-B576-10945EF9019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0E72B2-FAC2-4D83-8255-107D07B167A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A2BFF8-AC13-4F34-8774-CB4D90B996D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49DD1-2686-43CB-AB2A-0E0420C90DE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0DBA4-360B-43F8-920D-9E0DD9960DC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9A55D-A43F-4589-9761-81797A69D45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7705E1-2EA8-40CA-B314-3D488BDA3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0E2B40-03FE-4973-8D55-037308CF327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323C37-ED60-4E29-AB6D-07DCF3DFAF3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F258A-1F04-4BEC-BC3C-BD3758B6E41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86CCE9-B7D8-4A42-8220-B263A55BD17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09FD03-75DE-4557-9B1C-D24C16F1FCB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742769-CD45-46E2-B6FE-824FA7F7A24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87A3E2-745C-416A-BF49-3D3FA5D1231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4405F0-A3F6-4906-A822-C071ED93F49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AC24C4-7A8D-44E5-9B28-F2551442307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2A7592-6526-4061-B77E-AEB81AE580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C3471A-E3F4-424A-9BA9-313C93C853C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02E4D4-BE76-43E2-A32E-47260953F4A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1B920F-A259-48BF-9CF2-1BC25BA07E2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93B159-FF1D-4D39-BCEF-115D1DB70F6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000053-A5B8-402C-94A4-55E079A3D6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3E4D6-0639-4BB0-A61F-8643AA56D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A9B97-92C9-4AF5-A16E-378C6B510E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334A6-7A19-4DBE-8B41-08D211D379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6E30C-8219-47FC-BFD9-5B668897DC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39473-1DBD-4576-AAF9-5D4B2B6410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65714-FE41-40D8-9D49-F288BA431D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422A-0B80-4133-A7F0-0C8B27B7F8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CB532-664B-4DA6-987B-16AB09A471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BACA0-AA73-4EA4-9126-12BDCA5BE9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F8475-1CF3-4EC8-AD18-B7885061E7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A3886-01B1-4448-9E33-9856564AF0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43187-8C5D-4733-8015-885BBB0AC7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C44ED-A78E-4218-8821-70DA01056F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B83BE-919B-4EC7-82A0-536B90B22B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22A1-0316-4FC8-B8F1-4F25100458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9AC7-4EAD-406C-81A4-BEB0B6EC51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B1AB-E9AC-4011-A78C-F654C67AB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B7BD-6187-4C27-B087-C9F86C37BD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2F9C-D25F-4F01-9655-35386B02A0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E919-921A-41E8-A1DF-F3BDB3CF80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6402-C588-4DA2-A009-3214FAB8CA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16B3-FB65-49D3-A635-891EDCE74F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65AC-2765-4282-A6E2-5143EF470B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3EB6-A0B5-43BE-8D7F-4CDAB700AB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F4E1-1F4A-462A-8A80-F60246C370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9335-50EE-4313-9D2D-F17B2BE9A4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F64C-F4A3-4DFB-B761-EC8035D7954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972DC-E91B-478C-B9D6-8817A3EB1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392A-B0A0-4073-A4A5-F32403133D8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33010-AE11-40C3-B786-6596B163386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06D94-1C87-41C2-ACF5-AFB09A243C5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D573E-54AA-46E8-83D5-F697D3B6C75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2146B-6436-4485-9261-AB5A1BD07D4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45045-A609-4924-A821-A2385AED61C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F3351-E899-42AC-A784-AD54217DBF0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471A4-4B6F-4CB4-A810-8554F2C98A8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9E0DF-CB33-4BF5-AAF2-1E65C6E46B7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0E16E-1B86-44DC-80D0-7E66B8556FC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51FAE-727F-4ECE-BDB5-BFC12E928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15825-3444-4FC2-8084-430E4E14069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DA38A-7B86-4499-94E7-8C09C782987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24A0CA-43B1-4393-854D-C98CEB3CF6B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D8415F-37EB-4291-92A0-A7A13CDA37B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84EA04-F3ED-4395-8406-2C370F8DA69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ACC234-13CB-4FCC-80E8-60853CFB72C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AD93A7-1A1B-4581-A256-04E858A7BE3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646AB6-720E-4149-8339-43D38206A5E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77ECF-9358-44F2-8337-4325C99D3BC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BD2808-B884-4F76-9DB7-3983A383A27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A46616-0C3F-4CC5-9BAD-4395D4C57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C0D07-11F6-4B04-BD0B-E6AF85F3A9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A23106-DE9D-4875-86D4-A2B8160CAC2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F2E976-1CE9-4D92-B472-3778DA1FD22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781B2-D25E-46B8-AFED-C4C4F170612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C4E62-5C6A-477D-B5E3-AC8D6127631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616A-4B55-4880-932F-65E911AA24C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E14BE-FEDE-4EBE-A80A-9B1BAB06671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402EC-2CB7-42B4-8E45-379A77A0F71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4B0B2-246F-4ED3-B39B-D0F2EB78E1A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B0B17-A310-4CA1-B36E-A785C1A27BA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6E4BE-4319-4914-B88D-0BF9598BD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FE3C4-03A6-416D-866D-F08EDCD67D4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123FA-E5F9-4C43-A119-1133AA3DFC0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D0FDB-0B2C-403E-B386-95B3D06C0DF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260C0-43CE-4CD1-8297-AC1F215AAF1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058BF-E632-4FB6-AD37-16B1591E18F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E87AF-8342-4F4B-8A32-E30DEA22964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29DEF-3C3E-47DC-B895-12030945B34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2BA42-EEE6-4225-8B07-955462E16AA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283AC-F4B0-43C8-A8E6-09D8D4CE8CD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029A5-A5A1-43B5-9809-81182BDB39A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CD712-496E-4F00-BC6C-4A9960C16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10E60-249F-439F-8B5A-81AD7B9B105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DAA99-A61F-44FD-B6E3-0BDC194408A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F6C76-E5D9-4433-8F0B-373B8E13DC1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44C6E-D540-47DF-8D74-09DE1AE7616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0D5EA-5067-413D-8FA3-6FA03D650D3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29F27-B42A-47E7-B369-A9A2E146DF9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6550F-D810-43CA-A2FE-81BE8B819FE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503C1F-9A01-4D3A-99FD-49C6C0EBDBD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D85667-3ADD-4EB3-813E-6FCE4DF287D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459D8A-D434-4BDF-A7AE-48D10172EEC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508C46-949E-44BA-9E29-8442E354C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404C-5441-4303-93D0-A9B82EA2D3D2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0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1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2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443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444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445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446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ftr" idx="17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sldNum" idx="18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1A84-2F76-465E-86FF-FB5360D18982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88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89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0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491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492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493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494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19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0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6FFF-16C8-4C74-83C6-1A27B7F06841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7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8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539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540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541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42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E801-803E-4073-B952-6EF9628DABBF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0" name="Rectangle 31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4341960" y="20160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2" name="Oval 40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3" name="Picture 46" descr="eu_logo2"/>
          <p:cNvPicPr/>
          <p:nvPr/>
        </p:nvPicPr>
        <p:blipFill>
          <a:blip r:embed="rId2"/>
          <a:stretch/>
        </p:blipFill>
        <p:spPr>
          <a:xfrm>
            <a:off x="7797960" y="4941720"/>
            <a:ext cx="8096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8"/>
          <p:cNvSpPr/>
          <p:nvPr/>
        </p:nvSpPr>
        <p:spPr>
          <a:xfrm>
            <a:off x="0" y="64911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5" name="Picture 53" descr="egee_bigger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6"/>
          <p:cNvSpPr/>
          <p:nvPr/>
        </p:nvSpPr>
        <p:spPr>
          <a:xfrm>
            <a:off x="4903920" y="95400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7" name="Picture 59" descr="EGEE 30y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2"/>
          <p:cNvSpPr/>
          <p:nvPr/>
        </p:nvSpPr>
        <p:spPr>
          <a:xfrm>
            <a:off x="0" y="5643720"/>
            <a:ext cx="1868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Apr. 25, 2009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" name="Picture 66" descr=""/>
          <p:cNvPicPr/>
          <p:nvPr/>
        </p:nvPicPr>
        <p:blipFill>
          <a:blip r:embed="rId5"/>
          <a:stretch/>
        </p:blipFill>
        <p:spPr>
          <a:xfrm>
            <a:off x="7440480" y="5673600"/>
            <a:ext cx="1524240" cy="61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SCL6hor"/>
          <p:cNvPicPr/>
          <p:nvPr/>
        </p:nvPicPr>
        <p:blipFill>
          <a:blip r:embed="rId6"/>
          <a:stretch/>
        </p:blipFill>
        <p:spPr>
          <a:xfrm>
            <a:off x="152280" y="5181480"/>
            <a:ext cx="152424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9" descr="EGEE_blue_web"/>
          <p:cNvPicPr/>
          <p:nvPr/>
        </p:nvPicPr>
        <p:blipFill>
          <a:blip r:embed="rId7"/>
          <a:stretch/>
        </p:blipFill>
        <p:spPr>
          <a:xfrm>
            <a:off x="4087800" y="5205240"/>
            <a:ext cx="1303200" cy="86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aegis"/>
          <p:cNvPicPr/>
          <p:nvPr/>
        </p:nvPicPr>
        <p:blipFill>
          <a:blip r:embed="rId8"/>
          <a:stretch/>
        </p:blipFill>
        <p:spPr>
          <a:xfrm>
            <a:off x="1900080" y="4660920"/>
            <a:ext cx="1879920" cy="195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7" descr="SEEGRIDSCI.jpg"/>
          <p:cNvPicPr/>
          <p:nvPr/>
        </p:nvPicPr>
        <p:blipFill>
          <a:blip r:embed="rId9"/>
          <a:stretch/>
        </p:blipFill>
        <p:spPr>
          <a:xfrm>
            <a:off x="5772240" y="5140440"/>
            <a:ext cx="1500120" cy="995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8"/>
          <p:cNvSpPr/>
          <p:nvPr/>
        </p:nvSpPr>
        <p:spPr>
          <a:xfrm>
            <a:off x="2160000" y="1065240"/>
            <a:ext cx="51015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Grid Computing Hands On Training for Users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Faculty of Sciences, University of Novi Sad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10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10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109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0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47A5-E614-4F1A-8F88-B90CBCE6D0EB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3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4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155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156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157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58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5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6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BBC0-9CC3-44C7-8B62-A0CC790FE860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1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2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03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204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205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206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7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8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6BCB-38F3-4C58-A1FD-C57FEC5BB5F9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9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50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51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252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253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254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9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0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E176-22B1-49C4-8A61-1F7930C33157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7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8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99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00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01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02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1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5541-7B53-4D04-B088-F42CCD8E12A9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34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4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49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50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1E3C-3624-41F1-AC7F-A892283A80A4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3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4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395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96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97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98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5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6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91FC-CF84-4A0E-B308-A56C7BB0ADA4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2160720" y="3067200"/>
            <a:ext cx="6518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&lt;Presenter&gt; &lt;E-mail&gt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Scientific Computing Laborator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Institute of Physics Belgrad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Serbia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2155320" y="195084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44800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345600" y="974520"/>
            <a:ext cx="8589960" cy="5429160"/>
          </a:xfrm>
          <a:prstGeom prst="rect">
            <a:avLst/>
          </a:prstGeom>
          <a:ln w="0">
            <a:noFill/>
          </a:ln>
        </p:spPr>
      </p:pic>
      <p:sp>
        <p:nvSpPr>
          <p:cNvPr id="588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55BF-B68F-4DF8-ACCE-9ED5F5582BB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52:02Z</dcterms:created>
  <dc:creator>Dusan Vudragovic</dc:creator>
  <dc:description/>
  <cp:keywords>Grid Computing Hands On Training for Users</cp:keywords>
  <dc:language>en-US</dc:language>
  <cp:lastModifiedBy>Dusan Vudragovic</cp:lastModifiedBy>
  <cp:lastPrinted>2009-01-23T08:59:10Z</cp:lastPrinted>
  <dcterms:modified xsi:type="dcterms:W3CDTF">2009-04-24T15:16:45Z</dcterms:modified>
  <cp:revision>35</cp:revision>
  <dc:subject/>
  <dc:title>Grid Computing Hands On Training for Users</dc:title>
</cp:coreProperties>
</file>